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12.png" ContentType="image/png"/>
  <Override PartName="/ppt/media/image31.png" ContentType="image/png"/>
  <Override PartName="/ppt/media/image29.png" ContentType="image/png"/>
  <Override PartName="/ppt/media/image38.png" ContentType="image/png"/>
  <Override PartName="/ppt/media/image8.jpeg" ContentType="image/jpeg"/>
  <Override PartName="/ppt/media/image33.png" ContentType="image/png"/>
  <Override PartName="/ppt/media/image34.png" ContentType="image/png"/>
  <Override PartName="/ppt/media/image35.png" ContentType="image/png"/>
  <Override PartName="/ppt/media/image5.jpeg" ContentType="image/jpeg"/>
  <Override PartName="/ppt/media/image13.png" ContentType="image/png"/>
  <Override PartName="/ppt/media/image37.png" ContentType="image/png"/>
  <Override PartName="/ppt/media/image39.png" ContentType="image/png"/>
  <Override PartName="/ppt/media/image32.png" ContentType="image/png"/>
  <Override PartName="/ppt/media/image41.jpeg" ContentType="image/jpeg"/>
  <Override PartName="/ppt/media/image42.png" ContentType="image/png"/>
  <Override PartName="/ppt/media/image9.jpeg" ContentType="image/jpeg"/>
  <Override PartName="/ppt/media/image11.png" ContentType="image/png"/>
  <Override PartName="/ppt/media/image28.png" ContentType="image/png"/>
  <Override PartName="/ppt/media/image7.jpeg" ContentType="image/jpeg"/>
  <Override PartName="/ppt/media/image18.png" ContentType="image/png"/>
  <Override PartName="/ppt/media/image2.jpeg" ContentType="image/jpeg"/>
  <Override PartName="/ppt/media/image20.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 id="295" r:id="rId82"/>
    <p:sldId id="296" r:id="rId83"/>
    <p:sldId id="297" r:id="rId84"/>
    <p:sldId id="298" r:id="rId85"/>
    <p:sldId id="299" r:id="rId86"/>
    <p:sldId id="300" r:id="rId87"/>
    <p:sldId id="301" r:id="rId88"/>
    <p:sldId id="302" r:id="rId89"/>
    <p:sldId id="303" r:id="rId90"/>
    <p:sldId id="304" r:id="rId91"/>
    <p:sldId id="305" r:id="rId92"/>
    <p:sldId id="306" r:id="rId93"/>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slide" Target="slides/slide40.xml"/><Relationship Id="rId83" Type="http://schemas.openxmlformats.org/officeDocument/2006/relationships/slide" Target="slides/slide41.xml"/><Relationship Id="rId84" Type="http://schemas.openxmlformats.org/officeDocument/2006/relationships/slide" Target="slides/slide42.xml"/><Relationship Id="rId85" Type="http://schemas.openxmlformats.org/officeDocument/2006/relationships/slide" Target="slides/slide43.xml"/><Relationship Id="rId86" Type="http://schemas.openxmlformats.org/officeDocument/2006/relationships/slide" Target="slides/slide44.xml"/><Relationship Id="rId87" Type="http://schemas.openxmlformats.org/officeDocument/2006/relationships/slide" Target="slides/slide45.xml"/><Relationship Id="rId88" Type="http://schemas.openxmlformats.org/officeDocument/2006/relationships/slide" Target="slides/slide46.xml"/><Relationship Id="rId89" Type="http://schemas.openxmlformats.org/officeDocument/2006/relationships/slide" Target="slides/slide47.xml"/><Relationship Id="rId90" Type="http://schemas.openxmlformats.org/officeDocument/2006/relationships/slide" Target="slides/slide48.xml"/><Relationship Id="rId91" Type="http://schemas.openxmlformats.org/officeDocument/2006/relationships/slide" Target="slides/slide49.xml"/><Relationship Id="rId92" Type="http://schemas.openxmlformats.org/officeDocument/2006/relationships/slide" Target="slides/slide50.xml"/><Relationship Id="rId93" Type="http://schemas.openxmlformats.org/officeDocument/2006/relationships/slide" Target="slides/slide51.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271F-5F50-4D93-9F4B-792275FCE6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50920" y="698400"/>
            <a:ext cx="4653000" cy="3490920"/>
          </a:xfrm>
          <a:prstGeom prst="rect">
            <a:avLst/>
          </a:prstGeom>
          <a:ln w="0">
            <a:noFill/>
          </a:ln>
        </p:spPr>
      </p:sp>
      <p:sp>
        <p:nvSpPr>
          <p:cNvPr id="175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6917-63FC-4754-B335-2EEA87BF9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50920" y="698400"/>
            <a:ext cx="4653000" cy="3490920"/>
          </a:xfrm>
          <a:prstGeom prst="rect">
            <a:avLst/>
          </a:prstGeom>
          <a:ln w="0">
            <a:noFill/>
          </a:ln>
        </p:spPr>
      </p:sp>
      <p:sp>
        <p:nvSpPr>
          <p:cNvPr id="177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DEDF-F9EB-42C5-96AF-5C7E4FBEB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50920" y="698400"/>
            <a:ext cx="4653000" cy="3490920"/>
          </a:xfrm>
          <a:prstGeom prst="rect">
            <a:avLst/>
          </a:prstGeom>
          <a:ln w="0">
            <a:noFill/>
          </a:ln>
        </p:spPr>
      </p:sp>
      <p:sp>
        <p:nvSpPr>
          <p:cNvPr id="177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04F6-943C-453E-A513-D0B8FC06B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50920" y="698400"/>
            <a:ext cx="4653000" cy="3490920"/>
          </a:xfrm>
          <a:prstGeom prst="rect">
            <a:avLst/>
          </a:prstGeom>
          <a:ln w="0">
            <a:noFill/>
          </a:ln>
        </p:spPr>
      </p:sp>
      <p:sp>
        <p:nvSpPr>
          <p:cNvPr id="178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DA69-8E80-4DF0-B68E-701BA50BF6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50920" y="698400"/>
            <a:ext cx="4653000" cy="3490920"/>
          </a:xfrm>
          <a:prstGeom prst="rect">
            <a:avLst/>
          </a:prstGeom>
          <a:ln w="0">
            <a:noFill/>
          </a:ln>
        </p:spPr>
      </p:sp>
      <p:sp>
        <p:nvSpPr>
          <p:cNvPr id="178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B786-2DD8-4AAC-A0B4-72FED1DAFC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50920" y="698400"/>
            <a:ext cx="4653000" cy="3490920"/>
          </a:xfrm>
          <a:prstGeom prst="rect">
            <a:avLst/>
          </a:prstGeom>
          <a:ln w="0">
            <a:noFill/>
          </a:ln>
        </p:spPr>
      </p:sp>
      <p:sp>
        <p:nvSpPr>
          <p:cNvPr id="178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5D0C-1607-4D8E-BA9C-C40A18794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50920" y="698400"/>
            <a:ext cx="4653000" cy="3490920"/>
          </a:xfrm>
          <a:prstGeom prst="rect">
            <a:avLst/>
          </a:prstGeom>
          <a:ln w="0">
            <a:noFill/>
          </a:ln>
        </p:spPr>
      </p:sp>
      <p:sp>
        <p:nvSpPr>
          <p:cNvPr id="179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7878-21D0-48F0-9E73-A712E4B98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50920" y="698400"/>
            <a:ext cx="4653000" cy="3490920"/>
          </a:xfrm>
          <a:prstGeom prst="rect">
            <a:avLst/>
          </a:prstGeom>
          <a:ln w="0">
            <a:noFill/>
          </a:ln>
        </p:spPr>
      </p:sp>
      <p:sp>
        <p:nvSpPr>
          <p:cNvPr id="179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738E-53FA-4135-8E41-55269880B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50920" y="698400"/>
            <a:ext cx="4653000" cy="3490920"/>
          </a:xfrm>
          <a:prstGeom prst="rect">
            <a:avLst/>
          </a:prstGeom>
          <a:ln w="0">
            <a:noFill/>
          </a:ln>
        </p:spPr>
      </p:sp>
      <p:sp>
        <p:nvSpPr>
          <p:cNvPr id="179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23EE-9412-495E-BEC3-9E41411E56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50920" y="698400"/>
            <a:ext cx="4653000" cy="3490920"/>
          </a:xfrm>
          <a:prstGeom prst="rect">
            <a:avLst/>
          </a:prstGeom>
          <a:ln w="0">
            <a:noFill/>
          </a:ln>
        </p:spPr>
      </p:sp>
      <p:sp>
        <p:nvSpPr>
          <p:cNvPr id="180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72B15-9399-4202-BB8E-D5A310B95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50920" y="698400"/>
            <a:ext cx="4653000" cy="3490920"/>
          </a:xfrm>
          <a:prstGeom prst="rect">
            <a:avLst/>
          </a:prstGeom>
          <a:ln w="0">
            <a:noFill/>
          </a:ln>
        </p:spPr>
      </p:sp>
      <p:sp>
        <p:nvSpPr>
          <p:cNvPr id="180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807C-B540-4EE9-8325-B7DC6C4FE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50920" y="698400"/>
            <a:ext cx="4653000" cy="3490920"/>
          </a:xfrm>
          <a:prstGeom prst="rect">
            <a:avLst/>
          </a:prstGeom>
          <a:ln w="0">
            <a:noFill/>
          </a:ln>
        </p:spPr>
      </p:sp>
      <p:sp>
        <p:nvSpPr>
          <p:cNvPr id="175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4E5C-EA56-4C8F-AB01-DDF688EF5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50920" y="698400"/>
            <a:ext cx="4653000" cy="3490920"/>
          </a:xfrm>
          <a:prstGeom prst="rect">
            <a:avLst/>
          </a:prstGeom>
          <a:ln w="0">
            <a:noFill/>
          </a:ln>
        </p:spPr>
      </p:sp>
      <p:sp>
        <p:nvSpPr>
          <p:cNvPr id="180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Observations-Calend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teacher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re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5AD3-D128-45AD-AB02-292795A1A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50920" y="698400"/>
            <a:ext cx="4653000" cy="3490920"/>
          </a:xfrm>
          <a:prstGeom prst="rect">
            <a:avLst/>
          </a:prstGeom>
          <a:ln w="0">
            <a:noFill/>
          </a:ln>
        </p:spPr>
      </p:sp>
      <p:sp>
        <p:nvSpPr>
          <p:cNvPr id="180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64AB-FFE8-4F89-BF55-ED3EFACAF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50920" y="698400"/>
            <a:ext cx="4653000" cy="3490920"/>
          </a:xfrm>
          <a:prstGeom prst="rect">
            <a:avLst/>
          </a:prstGeom>
          <a:ln w="0">
            <a:noFill/>
          </a:ln>
        </p:spPr>
      </p:sp>
      <p:sp>
        <p:nvSpPr>
          <p:cNvPr id="181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9A1E-2D3D-4EF8-8386-D93B1C4E8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50920" y="698400"/>
            <a:ext cx="4653000" cy="3490920"/>
          </a:xfrm>
          <a:prstGeom prst="rect">
            <a:avLst/>
          </a:prstGeom>
          <a:ln w="0">
            <a:noFill/>
          </a:ln>
        </p:spPr>
      </p:sp>
      <p:sp>
        <p:nvSpPr>
          <p:cNvPr id="181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288C-8AC6-40BA-BC2E-61370EB2A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50920" y="698400"/>
            <a:ext cx="4653000" cy="3490920"/>
          </a:xfrm>
          <a:prstGeom prst="rect">
            <a:avLst/>
          </a:prstGeom>
          <a:ln w="0">
            <a:noFill/>
          </a:ln>
        </p:spPr>
      </p:sp>
      <p:sp>
        <p:nvSpPr>
          <p:cNvPr id="181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ED98-DA42-40EE-967E-2BE437D1A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50920" y="698400"/>
            <a:ext cx="4653000" cy="3490920"/>
          </a:xfrm>
          <a:prstGeom prst="rect">
            <a:avLst/>
          </a:prstGeom>
          <a:ln w="0">
            <a:noFill/>
          </a:ln>
        </p:spPr>
      </p:sp>
      <p:sp>
        <p:nvSpPr>
          <p:cNvPr id="182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27882-9194-493B-823C-276BC59C4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50920" y="698400"/>
            <a:ext cx="4653000" cy="3490920"/>
          </a:xfrm>
          <a:prstGeom prst="rect">
            <a:avLst/>
          </a:prstGeom>
          <a:ln w="0">
            <a:noFill/>
          </a:ln>
        </p:spPr>
      </p:sp>
      <p:sp>
        <p:nvSpPr>
          <p:cNvPr id="182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1702-2762-4104-9494-AE08F0152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sldImg"/>
          </p:nvPr>
        </p:nvSpPr>
        <p:spPr>
          <a:xfrm>
            <a:off x="1150920" y="698400"/>
            <a:ext cx="4653000" cy="3490920"/>
          </a:xfrm>
          <a:prstGeom prst="rect">
            <a:avLst/>
          </a:prstGeom>
          <a:ln w="0">
            <a:noFill/>
          </a:ln>
        </p:spPr>
      </p:sp>
      <p:sp>
        <p:nvSpPr>
          <p:cNvPr id="182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48196-894B-48FF-AC9A-FF4D8884B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50920" y="698400"/>
            <a:ext cx="4653000" cy="3490920"/>
          </a:xfrm>
          <a:prstGeom prst="rect">
            <a:avLst/>
          </a:prstGeom>
          <a:ln w="0">
            <a:noFill/>
          </a:ln>
        </p:spPr>
      </p:sp>
      <p:sp>
        <p:nvSpPr>
          <p:cNvPr id="183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9A98-F815-4F24-B269-B54C47ECC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sldImg"/>
          </p:nvPr>
        </p:nvSpPr>
        <p:spPr>
          <a:xfrm>
            <a:off x="1150920" y="698400"/>
            <a:ext cx="4653000" cy="3490920"/>
          </a:xfrm>
          <a:prstGeom prst="rect">
            <a:avLst/>
          </a:prstGeom>
          <a:ln w="0">
            <a:noFill/>
          </a:ln>
        </p:spPr>
      </p:sp>
      <p:sp>
        <p:nvSpPr>
          <p:cNvPr id="183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6B7B-A6FD-4DCB-ADEA-FF10C7469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150920" y="698400"/>
            <a:ext cx="4653000" cy="3490920"/>
          </a:xfrm>
          <a:prstGeom prst="rect">
            <a:avLst/>
          </a:prstGeom>
          <a:ln w="0">
            <a:noFill/>
          </a:ln>
        </p:spPr>
      </p:sp>
      <p:sp>
        <p:nvSpPr>
          <p:cNvPr id="183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92D13-1C69-4480-8963-2B4FAF7D9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sldImg"/>
          </p:nvPr>
        </p:nvSpPr>
        <p:spPr>
          <a:xfrm>
            <a:off x="1150920" y="698400"/>
            <a:ext cx="4653000" cy="3490920"/>
          </a:xfrm>
          <a:prstGeom prst="rect">
            <a:avLst/>
          </a:prstGeom>
          <a:ln w="0">
            <a:noFill/>
          </a:ln>
        </p:spPr>
      </p:sp>
      <p:sp>
        <p:nvSpPr>
          <p:cNvPr id="183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3D25-CB6E-4A84-9F2A-148D8B749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sldImg"/>
          </p:nvPr>
        </p:nvSpPr>
        <p:spPr>
          <a:xfrm>
            <a:off x="1150920" y="698400"/>
            <a:ext cx="4653000" cy="3490920"/>
          </a:xfrm>
          <a:prstGeom prst="rect">
            <a:avLst/>
          </a:prstGeom>
          <a:ln w="0">
            <a:noFill/>
          </a:ln>
        </p:spPr>
      </p:sp>
      <p:sp>
        <p:nvSpPr>
          <p:cNvPr id="184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1DB6-30E9-4874-AC9A-A590FFA9D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PlaceHolder 1"/>
          <p:cNvSpPr>
            <a:spLocks noGrp="1"/>
          </p:cNvSpPr>
          <p:nvPr>
            <p:ph type="sldImg"/>
          </p:nvPr>
        </p:nvSpPr>
        <p:spPr>
          <a:xfrm>
            <a:off x="1150920" y="698400"/>
            <a:ext cx="4653000" cy="3490920"/>
          </a:xfrm>
          <a:prstGeom prst="rect">
            <a:avLst/>
          </a:prstGeom>
          <a:ln w="0">
            <a:noFill/>
          </a:ln>
        </p:spPr>
      </p:sp>
      <p:sp>
        <p:nvSpPr>
          <p:cNvPr id="184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6C70-7205-4698-A937-CC07DA7C9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sldImg"/>
          </p:nvPr>
        </p:nvSpPr>
        <p:spPr>
          <a:xfrm>
            <a:off x="1150920" y="698400"/>
            <a:ext cx="4653000" cy="3490920"/>
          </a:xfrm>
          <a:prstGeom prst="rect">
            <a:avLst/>
          </a:prstGeom>
          <a:ln w="0">
            <a:noFill/>
          </a:ln>
        </p:spPr>
      </p:sp>
      <p:sp>
        <p:nvSpPr>
          <p:cNvPr id="184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E4C01-0D97-4D1C-B00E-A79880912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sldImg"/>
          </p:nvPr>
        </p:nvSpPr>
        <p:spPr>
          <a:xfrm>
            <a:off x="1150920" y="698400"/>
            <a:ext cx="4653000" cy="3490920"/>
          </a:xfrm>
          <a:prstGeom prst="rect">
            <a:avLst/>
          </a:prstGeom>
          <a:ln w="0">
            <a:noFill/>
          </a:ln>
        </p:spPr>
      </p:sp>
      <p:sp>
        <p:nvSpPr>
          <p:cNvPr id="185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DC2C-F2D8-4438-A0FA-042FAF1FB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sldImg"/>
          </p:nvPr>
        </p:nvSpPr>
        <p:spPr>
          <a:xfrm>
            <a:off x="1150920" y="698400"/>
            <a:ext cx="4653000" cy="3490920"/>
          </a:xfrm>
          <a:prstGeom prst="rect">
            <a:avLst/>
          </a:prstGeom>
          <a:ln w="0">
            <a:noFill/>
          </a:ln>
        </p:spPr>
      </p:sp>
      <p:sp>
        <p:nvSpPr>
          <p:cNvPr id="185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BE7E-EFB7-446A-8BEC-B97D8DC2A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sldImg"/>
          </p:nvPr>
        </p:nvSpPr>
        <p:spPr>
          <a:xfrm>
            <a:off x="1150920" y="698400"/>
            <a:ext cx="4653000" cy="3490920"/>
          </a:xfrm>
          <a:prstGeom prst="rect">
            <a:avLst/>
          </a:prstGeom>
          <a:ln w="0">
            <a:noFill/>
          </a:ln>
        </p:spPr>
      </p:sp>
      <p:sp>
        <p:nvSpPr>
          <p:cNvPr id="185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p:txBody>
      </p:sp>
      <p:sp>
        <p:nvSpPr>
          <p:cNvPr id="185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B392-602D-4B20-9867-9A73190C8BF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PlaceHolder 1"/>
          <p:cNvSpPr>
            <a:spLocks noGrp="1"/>
          </p:cNvSpPr>
          <p:nvPr>
            <p:ph type="sldImg"/>
          </p:nvPr>
        </p:nvSpPr>
        <p:spPr>
          <a:xfrm>
            <a:off x="1150920" y="698400"/>
            <a:ext cx="4653000" cy="3490920"/>
          </a:xfrm>
          <a:prstGeom prst="rect">
            <a:avLst/>
          </a:prstGeom>
          <a:ln w="0">
            <a:noFill/>
          </a:ln>
        </p:spPr>
      </p:sp>
      <p:sp>
        <p:nvSpPr>
          <p:cNvPr id="186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ll</a:t>
            </a:r>
            <a:endParaRPr b="0" lang="en-US" sz="1200" spc="-1" strike="noStrike">
              <a:solidFill>
                <a:srgbClr val="000000"/>
              </a:solidFill>
              <a:latin typeface="Calibri"/>
            </a:endParaRPr>
          </a:p>
        </p:txBody>
      </p:sp>
      <p:sp>
        <p:nvSpPr>
          <p:cNvPr id="186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CE5F-36DA-46FD-A5E9-4058E3C1AC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PlaceHolder 1"/>
          <p:cNvSpPr>
            <a:spLocks noGrp="1"/>
          </p:cNvSpPr>
          <p:nvPr>
            <p:ph type="sldImg"/>
          </p:nvPr>
        </p:nvSpPr>
        <p:spPr>
          <a:xfrm>
            <a:off x="1150920" y="698400"/>
            <a:ext cx="4653000" cy="3490920"/>
          </a:xfrm>
          <a:prstGeom prst="rect">
            <a:avLst/>
          </a:prstGeom>
          <a:ln w="0">
            <a:noFill/>
          </a:ln>
        </p:spPr>
      </p:sp>
      <p:sp>
        <p:nvSpPr>
          <p:cNvPr id="186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16DE-C58F-4E73-8889-A9538F4753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50920" y="698400"/>
            <a:ext cx="4653000" cy="3490920"/>
          </a:xfrm>
          <a:prstGeom prst="rect">
            <a:avLst/>
          </a:prstGeom>
          <a:ln w="0">
            <a:noFill/>
          </a:ln>
        </p:spPr>
      </p:sp>
      <p:sp>
        <p:nvSpPr>
          <p:cNvPr id="176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D9F7-51D8-48EB-8E58-33C98E7675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sldImg"/>
          </p:nvPr>
        </p:nvSpPr>
        <p:spPr>
          <a:xfrm>
            <a:off x="1150920" y="698400"/>
            <a:ext cx="4653000" cy="3490920"/>
          </a:xfrm>
          <a:prstGeom prst="rect">
            <a:avLst/>
          </a:prstGeom>
          <a:ln w="0">
            <a:noFill/>
          </a:ln>
        </p:spPr>
      </p:sp>
      <p:sp>
        <p:nvSpPr>
          <p:cNvPr id="186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760A-A160-48EE-8ACB-3026D56CD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sldImg"/>
          </p:nvPr>
        </p:nvSpPr>
        <p:spPr>
          <a:xfrm>
            <a:off x="1150920" y="698400"/>
            <a:ext cx="4653000" cy="3490920"/>
          </a:xfrm>
          <a:prstGeom prst="rect">
            <a:avLst/>
          </a:prstGeom>
          <a:ln w="0">
            <a:noFill/>
          </a:ln>
        </p:spPr>
      </p:sp>
      <p:sp>
        <p:nvSpPr>
          <p:cNvPr id="186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CB1C-5726-4B53-98F6-DA29F863E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50920" y="698400"/>
            <a:ext cx="4653000" cy="3490920"/>
          </a:xfrm>
          <a:prstGeom prst="rect">
            <a:avLst/>
          </a:prstGeom>
          <a:ln w="0">
            <a:noFill/>
          </a:ln>
        </p:spPr>
      </p:sp>
      <p:sp>
        <p:nvSpPr>
          <p:cNvPr id="176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F62B-FFF0-4C12-AA0D-8A604D554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50920" y="698400"/>
            <a:ext cx="4653000" cy="3490920"/>
          </a:xfrm>
          <a:prstGeom prst="rect">
            <a:avLst/>
          </a:prstGeom>
          <a:ln w="0">
            <a:noFill/>
          </a:ln>
        </p:spPr>
      </p:sp>
      <p:sp>
        <p:nvSpPr>
          <p:cNvPr id="176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4AF4-609F-490E-B42A-FACEBD291D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50920" y="698400"/>
            <a:ext cx="4653000" cy="3490920"/>
          </a:xfrm>
          <a:prstGeom prst="rect">
            <a:avLst/>
          </a:prstGeom>
          <a:ln w="0">
            <a:noFill/>
          </a:ln>
        </p:spPr>
      </p:sp>
      <p:sp>
        <p:nvSpPr>
          <p:cNvPr id="177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3931-0183-4BD5-857D-09BC7CF16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150920" y="698400"/>
            <a:ext cx="4653000" cy="3490920"/>
          </a:xfrm>
          <a:prstGeom prst="rect">
            <a:avLst/>
          </a:prstGeom>
          <a:ln w="0">
            <a:noFill/>
          </a:ln>
        </p:spPr>
      </p:sp>
      <p:sp>
        <p:nvSpPr>
          <p:cNvPr id="177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EDF2-BCAC-4C5D-AA29-B4DCEBBC6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79865-EB8E-4036-87C3-76BE9B547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6991E-3923-420A-96A1-CBB36E7A1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D5E10CD-E1D2-4179-B670-6B721B4633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C2EC6F4A-EAD1-40CD-88ED-031742BA24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0ADB144-3CC0-4392-B1F5-B791A4CE26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E49AC4F-FA0A-4611-8F74-33F8F6B873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0027090-77DD-4AEB-973D-E326C9CC5A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147F7C7-D360-4FC3-A07D-DD7320DAD8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7331E4A-0CD8-41E9-92B2-06B71A8A06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8DFBE651-793C-4867-8309-44E9D2FFAB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23EC1395-638F-410C-8DEC-A76E502BB1CE}"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17DB7F6-E10E-42FC-912C-F0A714A1B2B5}"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DD799-68E6-409E-B722-B7A87C490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DC72DB28-C447-46F7-B4B7-7A89D6D307D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4E9EF8BF-1166-469D-812F-21C3B876EF2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C9062660-AE44-427E-B3DB-54DB2539341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8AB991EF-D93C-4BF3-B8AE-4023B060A1B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1B1B02AC-BA9C-42FB-A034-124375BDFEA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78C73F68-E83A-495D-AF72-BCBC6B399A3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59529F0F-2CE6-40AD-9382-9BCBB2CC47E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0747B2A9-C819-4DB9-BB39-D62AA481C08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0349F556-B468-49D1-B670-82F9EF4D835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73C80ACB-D530-4192-8B72-9F8BC60657D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DF3E1-DA34-43CA-8DC1-4246ED6F2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2B41AD8B-4B0A-4E7C-8633-DC3175EE691F}"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1A47AB1-09A1-483C-9673-0CCCE6D7DC5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0ACD3B6-47D9-4C77-9D92-20D8D90BE54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10DB6B8-4D06-4E7A-8C1B-E579A24325E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6A3BD8C-C478-45F2-ADF9-8CC0BC46D47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F85EF81-6294-44CC-B32C-E57C2B89B47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95C6ED4-63BA-42F6-B290-347310CF8DB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285959A-0E5B-4646-905C-9F980E65437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7087634-4734-40D1-B99F-9CC505A370C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E660F89-3238-4E8A-9170-0645107C384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18AD03-87C8-45F9-AF25-B69101959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0372A54-D1AB-48B3-AA99-16F02FC2E52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5CEC293-0983-49AE-BCC1-914BEFE4384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A3D98E2-8555-41CD-AD33-68494EDE08C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4E23EC4-E815-44B1-B740-B0BFD87237E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5AB5C34-E9F4-4899-9CD6-8FD457D3877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654EA52-A41C-4F40-944B-2269CCFBA81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61C267A-62DE-4438-85C8-CC38F562CA2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0D06399-C7AD-4936-869C-76CF4E05238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7CE0AFC-93B7-4251-96F6-36C5A152916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DD58829-23A6-439C-BAE9-42A11767762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82ED4-4F78-4BA5-91B1-C9B26F5C8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49DF1FF-E4C0-476C-8637-2141E96E41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CC8B268-2076-437B-B7D9-E92DE6EFB44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28656B5-02A0-4711-B8E8-55D86919C46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295A8FEB-A9B4-4E3F-B8AA-35DC22E5E76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E83F69C-A4E1-419D-B349-F6031FA651F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6E1D722-6E56-4A6E-B08A-7AB387D2BE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EE5CE2F-5947-4BC6-A019-EF49C2637C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5A858C0-2496-4B1F-B2CB-B3F15EAB84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AE11C81-C724-4B76-B347-D1CC587702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23C0D7F-72BB-493A-9FC6-84557B0356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B585A-CC1E-4DD2-8740-70BE90570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CD298AA-6F1A-4DC1-958F-00225D4578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009385D-5929-47FF-B52A-7DB94E838E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0921AA3-69F3-4426-9F96-9C0B663BD6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69B60D2-2FE7-4AC7-AD99-C50875646B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675D551-0E41-4FB2-89C2-F8AA70C86F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2067F4B-D699-45AE-BD18-13C4F8EC2E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A5C221A-475B-49A1-94A1-9DCD9C8003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6F2BC1C-0ADE-4469-BE0A-EBF9086847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1655CBC-C4DF-4E30-8654-18BC3A4475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B307446-1D77-491F-B8E0-3E73C4FF73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67AB9-10BE-4A98-8346-E8124CFD7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3F88F6A-3D07-4200-818E-6DD2A15F73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BF1E1A3-A3EB-4683-B592-5F8B21DD47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6433331-AEAF-4CFC-941F-F791224596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3C87849-7049-4D5A-ABEB-DC10A4838E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1671B7C-2806-42B8-BFAD-02247A03EB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78B4233-C9F0-42EE-A1A7-CB88AAA1E8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64ACC16-FE4E-4FBC-BDA0-F9EDAA6BB2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2ADE302-F3D0-40A3-A3BC-4273812E1D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E1B45BC4-44D8-4E7D-BFB1-351C57FA769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890B73B-0BA9-4C9B-B8F2-37704F5FFC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28295-6941-4826-BF34-8A17DD513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AB2366B-9212-437B-8CEE-987E22CDB5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086AD25-5387-41F5-9333-CC405BF4E6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BA1CD8E-6D23-4C41-A34F-7F7EB0A981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D14D3E7-0F3B-4FD6-91A7-8C04218181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5598E9A-0046-48E7-92A4-D0D7FE8D50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C00CB76-8017-4C03-B2ED-02DC714B0B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37B9C70-0C10-46B2-9E7B-80B040348F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FE3C72B-4A04-4F33-BF10-5B99640612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4ADD388-208F-4C1B-858C-5084864495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CE8224D-D6AC-4743-9F37-F0DAF503F8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C7BE4-CB0A-4A55-82BF-283188BF3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6EF417E-BD69-467D-A943-0CE75C8877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2891210-C936-4ACA-B613-C266E47301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C146F8A-B05C-4DC9-B134-732BCCDC85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E48B648-F62E-4A2A-B5C2-ECAF0FB72E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7575EF3-0468-4A86-B621-172A28E5E2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7BF1035-54D5-45D7-B25D-B17D28A35B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1FBB2C4-D885-4112-B88A-0774458B30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6855CEA-FDC9-4605-8E2E-60A88656CC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0720EE5-8AB7-43CC-9223-E57147B148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E8F6DC9-94FE-4885-AD65-1644AD49D4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A97B4-5399-4043-B623-4E2E3FBD4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B7FF0A7-8032-4255-BB02-1866917758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097606E-FF2C-47D9-8932-19FACC2797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57B2A582-E346-41F6-A93E-F817FCCD07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1B1C4D62-B5CB-4C64-BFE9-C15E8D82B7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146C3F3-7181-49C2-8A8D-17C4C7F5EB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E42EBC4-2AD7-4027-BB6F-87A8E7233B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0862BB0-7EBF-4D55-9C3B-6076431077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9849CE7-E731-4D68-928B-3EC38F41DC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CBF14B8-D076-4A8E-9405-8D36AA2FE5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5EA9579-119F-49EC-8AB0-390FE4C928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BE2DF-AE2F-4CDC-9E8A-2CDCE187D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998A3-422C-468F-92E0-585907C81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C71A7C0-925A-47C2-8469-0B26102BBF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44E7A7F-CF1A-4B83-8F0E-BD5321D4C3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84C20CC-8386-4D9D-84B3-1B4011C712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55160D1-955B-4296-B8FA-3B31C33F2D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E323D01F-B610-48BE-ADF5-F9F007799E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B7C7AF85-08AE-4227-9B90-294EF281E5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99384C2-8B2B-402F-8D6A-34EEA48D08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2F65309-A2B1-4B6B-AA68-627FA79EE9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84F6D9A-39A9-474F-B951-901F0D03DC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0F7D875-8CFC-4CB3-BA28-346816CBAA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0F738-9A66-454D-A31B-9D5BE6FBA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F6F5E54-02BD-4A86-9B9E-02352DDF21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DEDC69D-0439-4A2E-BFE7-A4F08ECE24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21DD948-5689-4FB9-AEFD-D520A7E044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B4FCB04-51F7-455D-8C26-734FD8A409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EF2891E-CB1F-4C4A-9CC3-EB4C1986FD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9FA4391D-D86B-453A-AAE0-F9F4D99C3A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F84BDE57-28D2-47A3-AA98-093C1D04F1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58C2AD25-44A0-4B71-B413-7C984689E2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B99A2C7-A2BA-41DA-8648-87CFC067F8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752D3C1-3699-4079-82F0-60CB0FA4E3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40273-02C8-4051-9D46-A9410A31F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F3FBA46-DB8D-4189-8D93-4BD2A6E909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225A99C-AE4D-40AF-A78E-59E46E9E30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20FE3DA-9175-4AF8-B6D5-DD8E8BE9D3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2C904E4-A257-4C11-936C-E693EF162F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DE044BE-93A3-49E1-93BF-47D86D08A4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A19A7A39-5398-4F0A-B07E-9FC5F2607C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6EBBE83-D32B-41A1-ABDD-7DA4DF9CF6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76E62B47-F11A-4C47-BFA4-2A824F7A49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37A64D96-8E02-4F46-8896-72079A43B5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3C9A1882-3EF2-44F3-A0BD-4F8C691CCF1E}"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6FB8B-8BC2-4FE0-ABB8-EA7E4A920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EF50D338-0057-4AE1-9EEA-54502AD82C71}"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63205171-A4A9-4FB2-A7CD-2BCB1413CB1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B5844E00-0457-4C78-AA07-272A6685ACFB}"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7F890A3B-4CC6-4071-9694-FDD44EB651D4}"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5CA658B8-2FA1-4BAF-86B7-56EBB89D1A92}"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34C8B281-FEC9-4F40-A329-87AFB1AC35D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DDCF9D3E-0264-42F3-BEE7-C5945ADAAB2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ACC3F53F-4560-4720-85F7-CE8FC0D0D75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09B2056B-F619-47ED-92AC-FE39998E930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AE98C24D-C651-465A-BB22-6222C0C4C05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00B92-5246-4AF0-93BA-4C5CE7517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5849C2CA-BB72-4805-894A-44F352EEB5F0}"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8B8F77AF-9492-4F31-9257-EA35DF5CD6A8}"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C3E0B1A8-AF73-4E6F-B451-4CC5E17116D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0E7CCBB0-59D2-4533-B975-DF98916A551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A6F6CC0E-E0D4-48BB-8612-D63C55F10D0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884F2553-0DF7-4EAC-8779-A3CC4924373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20B277C6-3886-4718-A524-1E3B2654195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70ED2BDB-1A83-435F-8868-0B51F172964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75CD1E32-5303-494E-8172-F0C368D7B69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87F7CF32-446D-4A51-8A60-748E58974DF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A3ED7C-6E2D-487A-A874-2C5308516B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26FC10F2-007B-4C4C-8FB2-2650CAE5DF8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22E74C37-0BEF-4081-AB16-A391B18E725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F4EFF9CC-59DD-41C9-8BA2-997579041684}"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AE9380F9-DA67-4A97-8021-247CBBEC6F7A}"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5661CD08-318A-464B-B722-485C81DFA63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C8F2CC8C-D23F-4D3F-970E-E1180F6A7CD5}"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3C1DB8B-BE85-4D02-96EA-F19EEB3F32F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7B0335B2-DA1C-4534-AB55-ADB04A1BCF51}"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2A8EF36-3BFF-49F8-8C8A-0C203FA9C31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8E0FA90F-2E71-4FAE-AE6F-E3263349C6A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53DEEA-C2B7-487C-A754-E4891EA69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021D24C-FF5A-45A2-9527-E0CE9E1E119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7E3B70C-06F5-4A6C-B0C1-8F2E53CE9D6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5FA36579-1EC4-4EF1-83C1-2BB028480C3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48A94D84-DC41-4156-AB69-07106937523A}"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4A296A26-84C5-4B6D-98FF-59147475029D}"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F2C164F9-1608-4C6A-A38F-CAC7CE911DAA}"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1698ECC6-05DB-422B-B0DB-5C5ED4743AF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444B54B-34DE-4910-8745-D10F3312FC6A}"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E0F607D3-452C-435D-8D36-771E04E4058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A42B9110-D663-4D4B-BD1A-C74D99DD0FAB}"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65DD4-E3D9-4E8F-B310-9AEE25D2C9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F28D84C1-9459-464B-8680-CFA38230241D}"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857BDD9-DA13-47A0-88DC-B5BDB7D6D5B9}"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369F8E45-2781-4775-A1DB-4A7599DF9170}"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8C6C9F7-A9E1-4761-8393-75120A71DEF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F7DC65EE-DBAF-4978-9A74-EA5CE6A780B2}"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20669791-7D9A-4F4C-9665-54E6F4D5160F}"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B9FF81FD-A73A-4988-B0CF-BE64ADE56209}"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317C237B-8638-4E51-81E7-6C172B5A513B}"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72091000-CEA6-449C-AF2F-03296A857EF8}"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D5FA4AED-32E0-4E88-8C61-9A55C20B2E4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094E9F-0370-4773-9450-EF69541B2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5BCAD55C-5C1E-42C6-A0C2-3EE4B5602DDC}"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69433C49-AC56-4870-A920-CBC167B80BEA}"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641E4442-85FB-483F-881A-AAA2C1872570}"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B1CF284-EA1A-4836-9977-30EADF52F50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B16CC75-C863-469E-BA66-4D7DFC8AD26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1AD3A31-8D3B-4D45-A706-C73DB334790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7272C6F-E023-4C4B-BC07-049EA08A7AAE}"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B41A5FD3-F78A-4A69-A990-EC8DA2EF96ED}"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6B67E1A0-7A90-450C-ABCA-D6EC2F09CD11}"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2259413D-EAA0-4B8F-BC79-D0630D68D5C6}"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58EDE-8CC8-4B33-9C90-2FA61C3034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5B39F315-92AA-4D8F-B219-C1366CFBE8D1}"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0A590564-65A0-499D-95C8-CA0A7875A24E}"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B61D5CED-5A85-4333-8AA0-B113D9BBD2FF}"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D6DACCCD-F219-4C03-8410-C2E663EB5150}"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C6541F49-409E-4CA0-A7B7-39F957865E55}"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38E3854F-EC5A-42A8-AAB9-A462049A5A8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EE42FEA-F19C-45E8-81EA-06293A95717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A74FB17-E696-49F1-93EF-6C1E7ADEB67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A9BFC296-D40D-4781-B56C-0C4DD0973A10}"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FA219313-E8E8-440F-A2FF-004F11AB2044}"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BB83D-EDBB-4B22-8A59-7A8DEB792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7EFD5-3BF0-4CD8-8AC1-F20E7EDBC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94203401-908F-4E44-B586-06660DBE50B2}"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390E22CA-4A49-433D-99FC-7815177EFDCC}"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2D31D6F7-C8F6-41B4-A085-F9B846805AEE}"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8B6EE0D8-706B-4381-A206-718E2867ACA8}"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3DE9E795-432D-4B62-AF33-ADE48BA6F708}"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274B34E8-3FA6-499D-AD8B-597CCF6A2AF5}"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F55B1DA2-2913-42FD-B30B-732C0E72938F}"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D34A5165-A25E-4B26-81B0-6E9BF3431435}"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37BFDFC-A9D2-4F81-ABAB-4C3338938138}"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F82D9E2E-0A52-4611-8A2B-AC93618B6427}"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B9BFA-55C3-4BE6-A483-9C5AEBE44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7577C8AB-A78E-4DEC-8F94-8A3EF57DC90D}"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CB0FA876-A6F6-4AF5-9ABC-9A3761A2A387}"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BB8E3151-7CC6-4AB9-A34E-E68D488E7668}"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B42371DB-3548-4C35-B588-8D7F25523012}"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0157DD55-AE6E-49C4-9A74-28DD14CCF20F}"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6E5CE1D0-7DF1-45FD-990B-8CB612F678A0}"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4DE90D25-61AB-41D0-A6B0-208BBB83291B}"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5AEE677D-A39A-435D-803E-9A056BE73830}"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5383E401-7D2B-4F26-9D90-16643F8DE93E}"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25541D2F-5ABB-49C5-A36B-9457853591C4}"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D3C76-F52E-4F54-B068-71F9A07F9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DFFC9D90-65C8-4F13-94DC-F289E4D1A86A}"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315BB76B-6D14-4E6A-8B5A-F9FF73134CC4}"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7327D7B4-2EFE-4D6F-A588-27FB77D2DB92}"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7CC4A091-F8E4-437D-9412-8719F796736D}"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A6420A34-C713-4F68-8AA9-0111E1851322}"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8F90B1C6-249F-49C1-98A1-DB5E5845FD8C}"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7AABE90E-4133-4727-AA18-E4DE1BAB7DE8}"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A2455D6F-73C2-495E-8EE1-64BC964DE04B}"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17BF4638-2A66-467B-A0B6-1B00EB801C5A}"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939323B2-6B00-496A-9464-AF510846E2FE}"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EDF18-A568-414D-90F5-991C13D77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6BCB0F38-E501-468C-A2E4-E0308C034B46}"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F31960CE-FEE9-4D71-927C-27E77F2A1409}"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101B7104-12A5-4901-9969-0E92468215D9}"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8E36A9A4-3127-444A-B304-B21CF3264ACD}"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303A7BCC-A545-440E-9BE6-EF4C9207112A}"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4C99FAC5-18E3-4EE4-9C41-3E6A089C80AE}"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105D531C-1B36-43F6-9FF5-B370138739D8}"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C3A190C5-381B-4865-8B46-13BF7D20ACF4}"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DD5D58E0-D31D-4D9A-9385-1C2B6FEEBE4E}"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DF44B4F5-373A-4E5D-BC92-131D4279DE71}"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8A1572-E1D3-4D94-BBA1-35A0DAD20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E50EDB54-29B9-459F-8849-E830EECFF696}"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0E601D00-DBA5-4CD1-9660-438EBF9761FB}"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CDE7719A-38BD-4FC8-BAE6-AA28A446C993}"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1C60D51F-38D5-477E-8C4A-BA03C7C89747}"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9E890AFC-4DD7-4199-9DB9-4E6EA12676FF}"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29762897-5980-4F2D-90D1-6394EF6C3A78}"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CB619917-27BC-4CAB-9F03-EED050433FAE}"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689086BF-1356-4885-86AC-C5A25D973DFC}"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BEB40289-D1E8-45C5-B2F9-1F4CD1EEC604}"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C3D3141A-D04F-49B8-BD73-1ED2E2D74C25}"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56FD5F-72B0-4D3B-8C23-D3C6DC6C02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AE5EEB69-E6A7-4597-AEE3-BE857187A0A2}"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35865EE6-9DDA-4404-8856-E412A5D0F6CC}"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FE0E7846-E76A-4F89-A977-D1E92DE6CC51}"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CAA9090F-8F47-4F40-AEB6-2877A433A170}"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ADFD1E8D-53C2-48DA-B890-5C199EA773F4}"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BA7A5B14-9F0B-4BF8-BACA-4212DE76E2D2}"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2CB52728-0D39-4295-A401-B8D364C6EB1C}"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116E2A7F-1E8C-42F2-91D5-D3DA7C3DAF74}"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7084C9E0-C253-45A1-9BAA-C649EDC2FFBA}"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3D1D5E31-B2D6-4187-A283-7419C6ECF2C7}"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EC8816-6CF0-42A9-A831-3F1D0E55C6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0367867F-C9A1-4DB1-B4F8-A569A10B4F47}"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7547847E-FD15-4235-AE65-24A0402838DD}"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9242C663-8E70-4C69-A272-30A7C7F0C8D4}"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B2F1D71C-AE0C-45FB-88A0-0D5261F4A853}"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D322CEC4-B130-4F1F-BB2D-9B20EAC066B7}"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0376AFC1-0F2E-4A73-8887-F7DDE207D4A0}"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849192F2-4DA9-4611-A6B9-70D264A770E3}"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F1982F9B-BA2C-4102-B7F7-FC7AC07CB2AA}"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955E9E67-9E7B-4D31-AD02-23BDB829D922}"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CB784DF4-3C01-40A3-B6D3-9FF668BFFDB1}"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34D63E-BC23-489D-A8AE-A1B64A536A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1B6D1440-8A17-4D75-AF20-A5382892F8C8}"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1AB9AD8A-616E-4821-815C-816A18902097}"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94D9137A-7B76-430A-8CCD-C4AA1717A5C9}"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D46C920B-1D51-4CC5-8115-19F8E919F3E4}"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689EDFD8-2A64-4327-89E4-18F806A40E48}"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9FAB98CE-223F-4F95-8343-D73DEDDF72CD}"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E35A18D7-7BD2-42E7-9B76-C363AC88FB90}"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D29BAA8B-2663-4EED-92E3-29FA49250223}"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DE7EB142-C0C5-4BB2-80B1-38A5DEF8D141}"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28059E6A-7CB5-4AF9-9982-DDAF65CDB9B2}"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1574A8-5B2B-4817-8E7E-4BAD04A1C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B1201414-2280-4363-A57E-FFF808C80F0A}"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BAB3DD0F-5A77-4F52-ACFF-8D4D878BA6CA}"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35CDBAD9-903C-4E99-B481-6F90D4912379}"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F53C2737-0D4C-413E-AFE8-72C40EB0B4BD}"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7BEF5BCA-2677-463A-A367-E7A9AAD1F7D8}"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214382FD-4C16-4536-B401-BE5DC393D766}"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0EAFDE1B-5307-4C22-851C-4DB18C04CB14}"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642FDED8-881B-4EF6-8210-FF1C20F89B4E}"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E190CB15-C32D-4895-87FE-4AE8A3911D0B}"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92D6F23A-0176-4198-A16B-E675D2B1C8EB}"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1FF15-C911-4295-8BA8-4066ACA5D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33B1706F-036D-4934-A5A1-C1CBCB8B5EA6}"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022B7940-2709-4E33-9B99-AF6C59F658C9}"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F84FAB77-4D10-40BF-929A-08686FCE4613}"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11B14E02-BE04-4741-B8A2-1DA1CA10A621}"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5B3333AD-2415-4D4A-9EC3-AE237B2D7FDE}"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B7F6D3E9-8131-4632-BCDC-00DE5DBE22B7}"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0530C012-0BBD-44DE-8098-FBB63B42D35E}"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41040A04-4D0A-4D6A-855A-F32CF8261906}"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D52CB416-906C-407C-A573-842312A07BEF}"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8654FB0B-83AB-4F38-AC4E-6A0F040604E4}"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215CC-80A1-4426-914F-FF44C33C0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33AEB8-ECDF-4826-9D3C-3F4021BB94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C83F0B7A-1354-48D8-8BE7-B3E9FB83CEE9}"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8F27379E-0B9E-4D49-8C09-33F89F56FCA6}"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571746CC-4AB2-4F4A-B219-0E54AB1427A0}"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B51134BD-68C2-48D4-BEE8-EAD1805A2259}"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33B97F2D-F842-427E-B904-CD971D6ABF1D}"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A037AF23-CEA8-436A-AB85-5146ECA6CAB7}"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FE5BA340-A63C-4E66-8EE1-FA8BE5BB563F}"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0D445CF6-8AC1-4822-B365-F4E91AACA41B}"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78250AE4-66E1-4C4E-890C-78A911C27FE3}"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53550A75-A17C-4ED8-856D-6026E8E56336}"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988355-5A7A-4864-A367-0F9A9443AD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36E32E45-B837-4CA5-8173-D17B7203D87E}"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1DB747E3-12F3-43DD-9AEA-07DD02C8D4AF}"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3E6FB908-389C-421F-A8B8-7B920A51A0F9}"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EA8F6663-73EC-4A19-BD43-91174F0A0F39}"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20F27CC8-0D0D-4EFA-AEA5-2EDC6DF65E1E}"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638A6C5A-3C6D-493F-8CA1-513DE24C907B}"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B3B30946-974C-440D-8EF6-FCAEECCE47CB}"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A50BF294-ACE7-4BB8-99F9-F05372F4C117}"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B3B212F9-7A23-424F-8E63-AFE5ADFC820F}"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84C12383-6900-4F18-BBD5-737282C02501}"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BA16CE-636C-4941-AC99-2125A70EC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D8DC727C-8268-4DC4-8243-39945FB55635}"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D043E18D-DD62-462D-8CB5-FD5F6F519019}"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CE23B0E0-9644-4CC2-B98E-0A367A822C02}"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63557BD6-AC5C-4D27-B39B-320614DF2135}"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29EDB344-49BF-4CDE-ACC8-A183A77CCAF2}"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F3454BEC-B121-40B7-8A15-93B68AADBCF0}"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F4F2E02A-82CF-4204-89FE-EC20518CCF7B}"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A2671449-6A74-4089-9707-6455000D0A11}"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762BBA72-D468-49CA-8413-3D0503E4C847}"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6A204667-0546-46BE-9F11-6D83FD8D3437}"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EAA6E-ECB7-42CC-ADB2-A9A97E415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3E60CFD3-1CAF-49A1-9152-AEC0B024C2D3}"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A8780E25-809A-488E-8979-B75C40579C9D}"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7656B779-A7D7-43CE-B48D-42984DA7BD06}"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B7EC8101-0328-4555-ADDA-7172BB44E978}"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DB9795C7-2E4A-4F71-9822-614981091986}"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9E4A3D25-0F38-44D4-AA60-ED57BACC5610}"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6CF6917F-4E3F-4B3C-8E96-A2853878D1A4}"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6B8F423F-4ED6-4D2C-B4F2-E0254554152F}"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3D45D978-3DA9-4A14-A05B-677BD1398543}"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A5C41729-CD8D-4583-A42C-39F6E054602F}"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E272F0-1FE2-4D7D-948B-C5093821AA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0A1CE329-CD17-4CD6-BA17-585B02C9180D}"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E22B7020-F33C-41CD-9923-96748912E95A}"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0E766DFA-74E1-4E26-A972-B37C57B670D3}"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6054C92B-9F81-4D14-BB24-5F590B760EB3}"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23BEE3DD-A15F-44F8-9CD4-6E0339B0392A}"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53387C45-7B3B-46C3-B373-65218E46253F}"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6C21D757-1FF4-4C3F-BC3C-E9A009294E8B}"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275E3573-FE22-4DF1-AE46-8D3C9838F7E3}"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8A603E08-0678-4F14-82FD-DA6715F22F43}"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70C80765-AD69-4AF2-A858-8B3674FEFC66}"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DC98C-A041-41A4-B52E-5151D7EED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E9AABF7B-B827-4129-8D23-3BD6457C4915}"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6669BADE-48D1-4427-93EA-985CAAA65B88}"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77D195ED-7A09-411A-BEC8-21F6805DFB9A}"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5684EB77-FB95-44D3-ADFD-2543A6E6D5E4}"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8A279A30-670B-495F-94EA-F6B961F80935}"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F7933C01-0FDA-479B-831B-8E01770C3B9A}"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68E5D37E-E96C-4B0A-9D30-705947CB3AD6}"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3C178FF0-EAD6-4EB6-9735-81D1D646224C}"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845F62D1-CF1A-45EE-963B-009CA61A2575}"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F2B7D756-5F3D-4938-8342-5A76EFEBFC67}"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9762D-DF7A-4EAA-91CE-92103A7BC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ED5696A5-B4B4-4409-BC76-49703B1980F0}"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B18A2BA7-7F0C-4417-A141-E92B20540335}"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E4261A25-C781-4505-9FC7-AB253355FB86}"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25D8C0E0-7BE2-47D5-BF47-241F14D87589}"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7DBD2389-F211-47F7-9EF3-F6C7B31B9E13}"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B42A6857-4A46-4C9C-B030-946EEC26C507}"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694D4626-7A72-45E9-BDE2-AEC53FF804C3}"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F63AADEB-4598-49C7-BB14-62E692BCD76D}"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63F137AA-7CEC-4CD6-95AB-ED0B79F8B8C1}"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0170A9B1-B029-4A99-AAF3-A7D7B95031EA}"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73F079-5444-4EF7-9543-7291AD6A8C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CDCA5D27-58CB-4252-93A7-F24BD69BAD34}"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3B56C3C4-DA1C-4634-AC7B-A3652E34D986}"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688B9F01-79E7-4AF5-AE18-2DAE44F697DD}"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6DF4A6F2-2DA9-42D9-9420-D47456B118E8}"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B9928E3A-CC0E-4BA7-B506-72E3D2636470}"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EF214EAD-5FB8-44CC-A3A9-8A0B657F95C7}"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589427E8-AB8B-441D-952D-1FF46582F495}"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D83DECE4-5220-4C2A-A655-F0E21B47838A}"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142C2E64-297B-43B6-AD63-34E9101231AF}"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EC25A775-8F73-4DF3-8EE7-695CC3BA35B1}"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6FD857-4B15-4AB0-9E4D-E057427666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CAAC6F2C-E381-40A3-ADA5-71131AD31F51}"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5CD9F-6B7A-4B8F-B8F8-048CF5FBF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BD8AF-74F8-46A4-BFA1-CBEADC488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DBB42-FA48-45D3-813E-EA229EE6C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6B4E40-8DD2-4E38-9B18-AB29CC53B1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532181-2016-4C79-9995-6180CA4E1E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5EDFEE-DFA6-4D25-AD88-E32724447E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9C09D-44CC-4DA1-BAB7-85D4A77FB8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0B3696-B294-47E5-A60E-AD2A37CAC5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96F92D-E41F-40E9-BE65-178D25B59A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C23CC-0508-48B6-8818-A38A83EDB5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F103E-7F7E-44E0-A40B-0414D12EE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8304F-4CD1-491D-B212-ECB7ECA06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B7F80-C461-4978-B8DA-164BB4E4E0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B859D0-3973-4CA3-8AC6-1CEE1D9248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F1E434-93B1-495F-9E65-66E10F5686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3DB240-1CAB-4AB8-9ED8-29F8B0C407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988582-A03F-48AC-910F-2C535CAECF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CC583D-35CF-489C-AC47-06E156F273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ACC1C8-C3F3-4588-8BDF-A4D2349479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34614A-2BD0-4CD9-86AF-6E2ED3CE54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59225A-09D9-4770-A850-2540908C44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71DC3-1D7F-4157-97AA-925A9D568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709763-0C04-44DE-8521-AD26F14227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3E324-1583-4FDA-8E3C-25003D780E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9FFEB-54B7-4A3E-82D9-01A0EC32A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144D3-7A34-4306-899D-47B0449098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F57D89-F4EB-4E5B-846C-497D71A30F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A5027B-6107-422B-9856-6B47BC3C7F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D8D1A8-CDD8-4B8E-9007-575F8CB66B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848B996-3B55-4E72-A0A9-F2A421299A45}"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518130B-8A6A-4358-9581-C0C43A0762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57468F1-42B7-4B2A-8342-AD5E7C609D00}"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ederationBol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7192-FE6D-4D3D-9C99-9E4F0BB5AFDF}"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563D2-BBC9-4358-8237-9483527189F7}"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0874-D3CD-4A74-A105-E31EE98A855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5863-420E-4AE7-A71E-E5AEDC693B94}"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202E-7E13-46E3-BA67-4166D88D545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33E8-18D3-4A0E-9780-E0B50EF3EFF8}"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D8F6-2419-4531-AB5B-A70DE2DAFCA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5CBB-9D36-4FE2-B422-9DBC8C260B95}"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F146-D17B-4A9A-897E-B5C9C672A851}"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D7C9-C39C-4101-A31F-7BBA224D735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187F-FBBA-4138-84AC-7AEE7D4D8FFE}"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EBAC-5B24-488F-A047-23049FFEC7C8}"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D064-82A7-453A-A9CB-5E4D93DC887F}"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7B97-878A-4FE0-8301-CCC77C56297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F619-38F5-40A9-B81F-B8D1E784B855}"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645F-96BB-465A-AD3D-48D80C29E0F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FDD3-4608-4772-A939-B50EF8AAB2FC}"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C68A-EEF7-4BDF-AD8E-032582073C1A}"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EA9A-051B-4311-977F-24A4755B92A8}"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B2CA-6D97-45A8-96B5-E21702DF86AC}"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8F18-B9FF-4DAE-9C38-4881C15BA6E4}"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0F47-D989-4273-86D4-D2A1B022448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0729-E0AB-41FC-8E9A-5EDFD29F1D1C}"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8023-E2EB-4EF1-B406-B4AEA208786E}"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5E3C-AAF8-4860-9668-44EBFF522995}"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AFCA-8759-4E42-B2B8-78F10DE0B796}"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5593-E077-4A6D-AF5E-73709504A6A2}"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1B9D-850A-42F5-9CA9-FA9825DB7DE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29EC-2D25-4347-8ABF-E582528D7477}"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7B1F-64E2-40A4-9E3D-6FB40C23AE7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75F9-EF5D-4E0B-AE42-735B6A3CBD59}"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7A71-D689-4B8A-9F6F-101D4827FEF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5699-4F4E-4526-B812-9334E9AFEB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23D2-A69A-48F7-BD0C-7500CE1C385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CA90-1B11-4F2A-A020-5F4AA8781A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E950-47E2-4B8A-99E9-A67CD60961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4AC7-7F75-4554-8C33-A96CBA0E94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9A81-08CF-44B8-ADE6-91688A502F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6A04-D5A3-491A-9932-81B5FDD76F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B146-9E25-482D-B28A-5740C6B93D67}"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29B8-FEA2-418B-B3F4-F7A03A7198E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E523-F926-4F9D-9F0F-A9E1FDAAD36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BF9C0-1E24-4BA2-99AC-DFC2B1530F2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1596-8DDD-438E-9E15-7F8B9F55FFFE}"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kb.iu.edu/data/ahic.html" TargetMode="External"/><Relationship Id="rId2" Type="http://schemas.openxmlformats.org/officeDocument/2006/relationships/slideLayout" Target="../slideLayouts/slideLayout3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2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mxweb.media-x.com/home/ncval/demo/" TargetMode="External"/><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2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6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6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42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center.ncsu.edu/nc" TargetMode="External"/><Relationship Id="rId2" Type="http://schemas.openxmlformats.org/officeDocument/2006/relationships/image" Target="../media/image40.png"/><Relationship Id="rId3" Type="http://schemas.openxmlformats.org/officeDocument/2006/relationships/slideLayout" Target="../slideLayouts/slideLayout36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469.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s://docs.google.com/spreadsheet/viewform?formkey=dFRBTUh5aDVaTmFaMTNlamw3ZkZHOUE6MQ" TargetMode="External"/><Relationship Id="rId3" Type="http://schemas.openxmlformats.org/officeDocument/2006/relationships/slideLayout" Target="../slideLayouts/slideLayout361.xml"/><Relationship Id="rId4"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slideLayout" Target="../slideLayouts/slideLayout36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ur Agenda</a:t>
            </a:r>
            <a:endParaRPr b="0" lang="en-US" sz="4400" spc="-1" strike="noStrike">
              <a:solidFill>
                <a:srgbClr val="000000"/>
              </a:solidFill>
              <a:latin typeface="Calibri"/>
            </a:endParaRPr>
          </a:p>
        </p:txBody>
      </p:sp>
      <p:sp>
        <p:nvSpPr>
          <p:cNvPr id="1613" name=""/>
          <p:cNvSpPr txBox="1"/>
          <p:nvPr/>
        </p:nvSpPr>
        <p:spPr>
          <a:xfrm>
            <a:off x="457200" y="1599840"/>
            <a:ext cx="8229600" cy="44197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introductions, agenda overview</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 your Experience Lev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s from McR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and Practi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Rater Reli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and Answer</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out the Do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4" name="Picture 4" descr="C:\Users\eedwards\AppData\Local\Microsoft\Windows\Temporary Internet Files\Content.IE5\PR30TM4L\MP900401668[1].jpg"/>
          <p:cNvPicPr/>
          <p:nvPr/>
        </p:nvPicPr>
        <p:blipFill>
          <a:blip r:embed="rId1"/>
          <a:stretch/>
        </p:blipFill>
        <p:spPr>
          <a:xfrm>
            <a:off x="5181480" y="2819520"/>
            <a:ext cx="3444840" cy="2490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McRel Online Tool Updates</a:t>
            </a:r>
            <a:endParaRPr b="0" lang="en-US" sz="4400" spc="-1" strike="noStrike">
              <a:solidFill>
                <a:srgbClr val="000000"/>
              </a:solidFill>
              <a:latin typeface="Calibri"/>
            </a:endParaRPr>
          </a:p>
        </p:txBody>
      </p:sp>
      <p:pic>
        <p:nvPicPr>
          <p:cNvPr id="1675" name="Picture 2" descr=""/>
          <p:cNvPicPr/>
          <p:nvPr/>
        </p:nvPicPr>
        <p:blipFill>
          <a:blip r:embed="rId1"/>
          <a:stretch/>
        </p:blipFill>
        <p:spPr>
          <a:xfrm>
            <a:off x="1744560" y="1600200"/>
            <a:ext cx="56548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NCEES Reminders &amp; Enhancements</a:t>
            </a:r>
            <a:endParaRPr b="0" lang="en-US" sz="4000" spc="-1" strike="noStrike">
              <a:solidFill>
                <a:srgbClr val="000000"/>
              </a:solidFill>
              <a:latin typeface="Calibri"/>
            </a:endParaRPr>
          </a:p>
        </p:txBody>
      </p:sp>
      <p:sp>
        <p:nvSpPr>
          <p:cNvPr id="1677" name=""/>
          <p:cNvSpPr txBox="1"/>
          <p:nvPr/>
        </p:nvSpPr>
        <p:spPr>
          <a:xfrm>
            <a:off x="457200" y="129528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use of the online tool is required beginning July 1, 2011. This includes teachers, principals, and assistant principal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n your cashe file for better functioning of the online tool.</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ff0000"/>
                </a:solidFill>
                <a:uFillTx/>
                <a:latin typeface="Calibri"/>
                <a:hlinkClick r:id="rId1"/>
              </a:rPr>
              <a:t>http://kb.iu.edu/data/ahic.html</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ase remember forms will travel with teachers inside districts but will not travel if a teacher changes district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your spreadsheet is accurate before sending it to McRel to avoid sending multiple copies in a short period of tim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e Record of Teacher activities form for teachers now. The form will automatically date as forms are signed but it will not back-date any docu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w User Manual</a:t>
            </a:r>
            <a:endParaRPr b="0" lang="en-US" sz="4400" spc="-1" strike="noStrike">
              <a:solidFill>
                <a:srgbClr val="000000"/>
              </a:solidFill>
              <a:latin typeface="Calibri"/>
            </a:endParaRPr>
          </a:p>
        </p:txBody>
      </p:sp>
      <p:sp>
        <p:nvSpPr>
          <p:cNvPr id="1679" name=""/>
          <p:cNvSpPr txBox="1"/>
          <p:nvPr/>
        </p:nvSpPr>
        <p:spPr>
          <a:xfrm>
            <a:off x="457200" y="1447920"/>
            <a:ext cx="82296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al Manual includes sections on:</a:t>
            </a:r>
            <a:endParaRPr b="0" lang="en-US" sz="32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n</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teacher observation, self assessment, summary rating form, PDP, and record of teacher activities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principal self-evaluation, summary goal form, creating a group, evaluation, summary rating form, progress towards goals and summary goal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 manage, and schedule observation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up for exporting data</a:t>
            </a:r>
            <a:endParaRPr b="0" lang="en-US" sz="2400" spc="-1" strike="noStrike">
              <a:solidFill>
                <a:srgbClr val="000000"/>
              </a:solidFill>
              <a:latin typeface="Calibri"/>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Updates Include</a:t>
            </a:r>
            <a:endParaRPr b="0" lang="en-US" sz="4400" spc="-1" strike="noStrike">
              <a:solidFill>
                <a:srgbClr val="000000"/>
              </a:solidFill>
              <a:latin typeface="Calibri"/>
            </a:endParaRPr>
          </a:p>
        </p:txBody>
      </p:sp>
      <p:sp>
        <p:nvSpPr>
          <p:cNvPr id="16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 of Teacher Evaluatio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Rating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obser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generating PD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 down menu for schoo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Signature – screen shot dir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stat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2" name="Picture 2" descr=""/>
          <p:cNvPicPr/>
          <p:nvPr/>
        </p:nvPicPr>
        <p:blipFill>
          <a:blip r:embed="rId1"/>
          <a:stretch/>
        </p:blipFill>
        <p:spPr>
          <a:xfrm>
            <a:off x="0" y="0"/>
            <a:ext cx="911556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3" name="Picture 2" descr=""/>
          <p:cNvPicPr/>
          <p:nvPr/>
        </p:nvPicPr>
        <p:blipFill>
          <a:blip r:embed="rId1"/>
          <a:stretch/>
        </p:blipFill>
        <p:spPr>
          <a:xfrm>
            <a:off x="0" y="0"/>
            <a:ext cx="9144000" cy="607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4" name="Picture 2" descr=""/>
          <p:cNvPicPr/>
          <p:nvPr/>
        </p:nvPicPr>
        <p:blipFill>
          <a:blip r:embed="rId1"/>
          <a:stretch/>
        </p:blipFill>
        <p:spPr>
          <a:xfrm>
            <a:off x="0" y="0"/>
            <a:ext cx="9144000" cy="612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5" name="Picture 2" descr=""/>
          <p:cNvPicPr/>
          <p:nvPr/>
        </p:nvPicPr>
        <p:blipFill>
          <a:blip r:embed="rId1"/>
          <a:stretch/>
        </p:blipFill>
        <p:spPr>
          <a:xfrm>
            <a:off x="0" y="0"/>
            <a:ext cx="9144000" cy="608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6" name="Picture 2" descr=""/>
          <p:cNvPicPr/>
          <p:nvPr/>
        </p:nvPicPr>
        <p:blipFill>
          <a:blip r:embed="rId1"/>
          <a:stretch/>
        </p:blipFill>
        <p:spPr>
          <a:xfrm>
            <a:off x="0" y="9360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7" name="Picture 2" descr=""/>
          <p:cNvPicPr/>
          <p:nvPr/>
        </p:nvPicPr>
        <p:blipFill>
          <a:blip r:embed="rId1"/>
          <a:stretch/>
        </p:blipFill>
        <p:spPr>
          <a:xfrm>
            <a:off x="0" y="0"/>
            <a:ext cx="911376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title"/>
          </p:nvPr>
        </p:nvSpPr>
        <p:spPr>
          <a:xfrm>
            <a:off x="533520" y="1447560"/>
            <a:ext cx="82296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I feel very comfortable using the NC Evaluation system to complete  a summative for my teachers.</a:t>
            </a:r>
            <a:br>
              <a:rPr sz="3600"/>
            </a:br>
            <a:br>
              <a:rPr sz="3600"/>
            </a:br>
            <a:r>
              <a:rPr b="0" lang="en-US" sz="4400" spc="-1" strike="noStrike">
                <a:solidFill>
                  <a:srgbClr val="000000"/>
                </a:solidFill>
                <a:latin typeface="Calibri"/>
              </a:rPr>
              <a:t>Scale 1 to 4</a:t>
            </a:r>
            <a:br>
              <a:rPr sz="4400"/>
            </a:br>
            <a:r>
              <a:rPr b="0" lang="en-US" sz="3600" spc="-1" strike="noStrike">
                <a:solidFill>
                  <a:srgbClr val="000000"/>
                </a:solidFill>
                <a:latin typeface="Calibri"/>
              </a:rPr>
              <a:t>1- not comfortable</a:t>
            </a:r>
            <a:br>
              <a:rPr sz="3600"/>
            </a:br>
            <a:r>
              <a:rPr b="0" lang="en-US" sz="3600" spc="-1" strike="noStrike">
                <a:solidFill>
                  <a:srgbClr val="000000"/>
                </a:solidFill>
                <a:latin typeface="Calibri"/>
              </a:rPr>
              <a:t>4- very comfortab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ed Some Practice?</a:t>
            </a:r>
            <a:endParaRPr b="0" lang="en-US" sz="4400" spc="-1" strike="noStrike">
              <a:solidFill>
                <a:srgbClr val="000000"/>
              </a:solidFill>
              <a:latin typeface="Calibri"/>
            </a:endParaRPr>
          </a:p>
        </p:txBody>
      </p:sp>
      <p:sp>
        <p:nvSpPr>
          <p:cNvPr id="1689"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mo site</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hlinkClick r:id="rId1"/>
              </a:rPr>
              <a:t>https://mxweb.media-x.com/home/ncval/dem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principal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teacher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How Would You Rate the Standards?</a:t>
            </a:r>
            <a:endParaRPr b="0" lang="en-US" sz="3600" spc="-1" strike="noStrike">
              <a:solidFill>
                <a:srgbClr val="000000"/>
              </a:solidFill>
              <a:latin typeface="Calibri"/>
            </a:endParaRPr>
          </a:p>
        </p:txBody>
      </p:sp>
      <p:sp>
        <p:nvSpPr>
          <p:cNvPr id="1691" name=""/>
          <p:cNvSpPr txBox="1"/>
          <p:nvPr/>
        </p:nvSpPr>
        <p:spPr>
          <a:xfrm>
            <a:off x="457200" y="1371600"/>
            <a:ext cx="8229600" cy="4525920"/>
          </a:xfrm>
          <a:prstGeom prst="rect">
            <a:avLst/>
          </a:prstGeom>
          <a:noFill/>
          <a:ln w="0">
            <a:noFill/>
          </a:ln>
        </p:spPr>
        <p:txBody>
          <a:bodyPr anchor="t">
            <a:normAutofit fontScale="93000"/>
          </a:bodyPr>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1: Teachers Demonstrate Leadership</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2: Teachers Establish a Respectful Environment for Diverse Population of Students</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3: Teachers Know the Content They Teach</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4: Teachers Facilitate Learning for Their Students</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5: Teachers Reflect on Their Practice</a:t>
            </a:r>
            <a:endParaRPr b="0" lang="en-US" sz="2800" spc="-1" strike="noStrike">
              <a:solidFill>
                <a:srgbClr val="000000"/>
              </a:solidFill>
              <a:latin typeface="Calibri"/>
            </a:endParaRPr>
          </a:p>
          <a:p>
            <a:pPr marL="283320" indent="-283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nline Module</a:t>
            </a:r>
            <a:endParaRPr b="0" lang="en-US" sz="4400" spc="-1" strike="noStrike">
              <a:solidFill>
                <a:srgbClr val="000000"/>
              </a:solidFill>
              <a:latin typeface="Calibri"/>
            </a:endParaRPr>
          </a:p>
        </p:txBody>
      </p:sp>
      <p:pic>
        <p:nvPicPr>
          <p:cNvPr id="1693" name="Picture 2" descr=""/>
          <p:cNvPicPr/>
          <p:nvPr/>
        </p:nvPicPr>
        <p:blipFill>
          <a:blip r:embed="rId1"/>
          <a:stretch/>
        </p:blipFill>
        <p:spPr>
          <a:xfrm>
            <a:off x="1295280" y="1371600"/>
            <a:ext cx="6629400" cy="459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Rubric for Evaluating</a:t>
            </a:r>
            <a:br>
              <a:rPr sz="4400"/>
            </a:br>
            <a:r>
              <a:rPr b="1" lang="en-US" sz="4400" spc="-1" strike="noStrike">
                <a:solidFill>
                  <a:srgbClr val="002060"/>
                </a:solidFill>
                <a:latin typeface="Calibri"/>
              </a:rPr>
              <a:t> North Carolina Teachers</a:t>
            </a:r>
            <a:endParaRPr b="0" lang="en-US" sz="4400" spc="-1" strike="noStrike">
              <a:solidFill>
                <a:srgbClr val="000000"/>
              </a:solidFill>
              <a:latin typeface="Calibri"/>
            </a:endParaRPr>
          </a:p>
        </p:txBody>
      </p:sp>
      <p:pic>
        <p:nvPicPr>
          <p:cNvPr id="1695"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6" name="Diagram 5" descr=""/>
          <p:cNvPicPr/>
          <p:nvPr/>
        </p:nvPicPr>
        <p:blipFill>
          <a:blip r:embed="rId1"/>
          <a:stretch/>
        </p:blipFill>
        <p:spPr>
          <a:xfrm>
            <a:off x="285840" y="268200"/>
            <a:ext cx="8577000" cy="571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Assessing Inter-Rater Reliability</a:t>
            </a:r>
            <a:endParaRPr b="0" lang="en-US" sz="4400" spc="-1" strike="noStrike">
              <a:solidFill>
                <a:srgbClr val="000000"/>
              </a:solidFill>
              <a:latin typeface="Calibri"/>
            </a:endParaRPr>
          </a:p>
        </p:txBody>
      </p:sp>
      <p:sp>
        <p:nvSpPr>
          <p:cNvPr id="1698" name="TextBox 3"/>
          <p:cNvSpPr/>
          <p:nvPr/>
        </p:nvSpPr>
        <p:spPr>
          <a:xfrm>
            <a:off x="762120" y="1905120"/>
            <a:ext cx="739116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 the statement</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te the standard and elemen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in the rubric</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e the teacher based on th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information provided</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us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1</a:t>
            </a:r>
            <a:br>
              <a:rPr sz="4400"/>
            </a:br>
            <a:endParaRPr b="0" lang="en-US" sz="4400" spc="-1" strike="noStrike">
              <a:solidFill>
                <a:srgbClr val="000000"/>
              </a:solidFill>
              <a:latin typeface="Calibri"/>
            </a:endParaRPr>
          </a:p>
        </p:txBody>
      </p:sp>
      <p:sp>
        <p:nvSpPr>
          <p:cNvPr id="170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4:  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C:  Teachers use a variety of instructional mate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Lesson plans reflect integration of technology.</a:t>
            </a:r>
            <a:endParaRPr b="0" lang="en-US" sz="4000" spc="-1" strike="noStrike">
              <a:solidFill>
                <a:srgbClr val="000000"/>
              </a:solidFill>
              <a:latin typeface="Calibri"/>
            </a:endParaRPr>
          </a:p>
        </p:txBody>
      </p:sp>
      <p:sp>
        <p:nvSpPr>
          <p:cNvPr id="1702" name="PlaceHolder 2"/>
          <p:cNvSpPr>
            <a:spLocks noGrp="1"/>
          </p:cNvSpPr>
          <p:nvPr>
            <p:ph/>
          </p:nvPr>
        </p:nvSpPr>
        <p:spPr>
          <a:xfrm>
            <a:off x="457200" y="23320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Lessons reflect consistent integration of new technology to support instructional goals.</a:t>
            </a:r>
            <a:endParaRPr b="0" lang="en-US" sz="4000" spc="-1" strike="noStrike">
              <a:solidFill>
                <a:srgbClr val="000000"/>
              </a:solidFill>
              <a:latin typeface="Calibri"/>
            </a:endParaRPr>
          </a:p>
        </p:txBody>
      </p:sp>
      <p:sp>
        <p:nvSpPr>
          <p:cNvPr id="1704" name=""/>
          <p:cNvSpPr txBox="1"/>
          <p:nvPr/>
        </p:nvSpPr>
        <p:spPr>
          <a:xfrm>
            <a:off x="609480" y="266688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2</a:t>
            </a:r>
            <a:br>
              <a:rPr sz="4400"/>
            </a:br>
            <a:endParaRPr b="0" lang="en-US" sz="4400" spc="-1" strike="noStrike">
              <a:solidFill>
                <a:srgbClr val="000000"/>
              </a:solidFill>
              <a:latin typeface="Calibri"/>
            </a:endParaRPr>
          </a:p>
        </p:txBody>
      </p:sp>
      <p:sp>
        <p:nvSpPr>
          <p:cNvPr id="170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4:  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B:  Teachers plan instruction appropriate for their stu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762120"/>
            <a:ext cx="82296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I feel very comfortable using the NCEES to complete an observation.</a:t>
            </a:r>
            <a:br>
              <a:rPr sz="3600"/>
            </a:br>
            <a:br>
              <a:rPr sz="3600"/>
            </a:br>
            <a:r>
              <a:rPr b="0" lang="en-US" sz="4400" spc="-1" strike="noStrike">
                <a:solidFill>
                  <a:srgbClr val="000000"/>
                </a:solidFill>
                <a:latin typeface="Calibri"/>
              </a:rPr>
              <a:t> Scale 1 to 4</a:t>
            </a:r>
            <a:br>
              <a:rPr sz="4400"/>
            </a:br>
            <a:r>
              <a:rPr b="0" lang="en-US" sz="3600" spc="-1" strike="noStrike">
                <a:solidFill>
                  <a:srgbClr val="000000"/>
                </a:solidFill>
                <a:latin typeface="Calibri"/>
              </a:rPr>
              <a:t>1- not comfortable</a:t>
            </a:r>
            <a:br>
              <a:rPr sz="3600"/>
            </a:br>
            <a:r>
              <a:rPr b="0" lang="en-US" sz="3600" spc="-1" strike="noStrike">
                <a:solidFill>
                  <a:srgbClr val="000000"/>
                </a:solidFill>
                <a:latin typeface="Calibri"/>
              </a:rPr>
              <a:t>4- very comfortabl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Uses student scores on assessments to modify lessons each day to meet student needs.</a:t>
            </a:r>
            <a:endParaRPr b="0" lang="en-US" sz="4000" spc="-1" strike="noStrike">
              <a:solidFill>
                <a:srgbClr val="000000"/>
              </a:solidFill>
              <a:latin typeface="Calibri"/>
            </a:endParaRPr>
          </a:p>
        </p:txBody>
      </p:sp>
      <p:sp>
        <p:nvSpPr>
          <p:cNvPr id="1708" name="PlaceHolder 2"/>
          <p:cNvSpPr>
            <a:spLocks noGrp="1"/>
          </p:cNvSpPr>
          <p:nvPr>
            <p:ph/>
          </p:nvPr>
        </p:nvSpPr>
        <p:spPr>
          <a:xfrm>
            <a:off x="990720" y="26668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2</a:t>
            </a:r>
            <a:br>
              <a:rPr sz="4400"/>
            </a:br>
            <a:endParaRPr b="0" lang="en-US" sz="4400" spc="-1" strike="noStrike">
              <a:solidFill>
                <a:srgbClr val="000000"/>
              </a:solidFill>
              <a:latin typeface="Calibri"/>
            </a:endParaRPr>
          </a:p>
        </p:txBody>
      </p:sp>
      <p:sp>
        <p:nvSpPr>
          <p:cNvPr id="1710" name=""/>
          <p:cNvSpPr txBox="1"/>
          <p:nvPr/>
        </p:nvSpPr>
        <p:spPr>
          <a:xfrm>
            <a:off x="457200" y="1600200"/>
            <a:ext cx="8686800" cy="452592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4:  </a:t>
            </a:r>
            <a:r>
              <a:rPr b="0" lang="en-US" sz="3600" spc="-1" strike="noStrike">
                <a:solidFill>
                  <a:srgbClr val="007eea"/>
                </a:solidFill>
                <a:latin typeface="Calibri"/>
              </a:rPr>
              <a:t>Teachers facilitate learning for their students.</a:t>
            </a:r>
            <a:endParaRPr b="0" lang="en-US" sz="3600" spc="-1" strike="noStrike">
              <a:solidFill>
                <a:srgbClr val="000000"/>
              </a:solidFill>
              <a:latin typeface="Calibri"/>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A</a:t>
            </a:r>
            <a:r>
              <a:rPr b="0" lang="en-US" sz="3600" spc="-1" strike="noStrike">
                <a:solidFill>
                  <a:srgbClr val="007eea"/>
                </a:solidFill>
                <a:latin typeface="Calibri"/>
              </a:rPr>
              <a:t>:  Teachers know ways in which learning takes place, and they know the appropriate levels of intellectual, physical, social and emotional development of their stu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Lessons reflect awareness of student readiness through the use of formative assessment.</a:t>
            </a:r>
            <a:endParaRPr b="0" lang="en-US" sz="4000" spc="-1" strike="noStrike">
              <a:solidFill>
                <a:srgbClr val="000000"/>
              </a:solidFill>
              <a:latin typeface="Calibri"/>
            </a:endParaRPr>
          </a:p>
        </p:txBody>
      </p:sp>
      <p:sp>
        <p:nvSpPr>
          <p:cNvPr id="1712" name=""/>
          <p:cNvSpPr txBox="1"/>
          <p:nvPr/>
        </p:nvSpPr>
        <p:spPr>
          <a:xfrm>
            <a:off x="914400" y="2819160"/>
            <a:ext cx="8229600" cy="3382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Works with colleagues to adjust instruction based on student work samples.</a:t>
            </a:r>
            <a:endParaRPr b="0" lang="en-US" sz="4000" spc="-1" strike="noStrike">
              <a:solidFill>
                <a:srgbClr val="000000"/>
              </a:solidFill>
              <a:latin typeface="Calibri"/>
            </a:endParaRPr>
          </a:p>
        </p:txBody>
      </p:sp>
      <p:sp>
        <p:nvSpPr>
          <p:cNvPr id="1714" name="PlaceHolder 2"/>
          <p:cNvSpPr>
            <a:spLocks noGrp="1"/>
          </p:cNvSpPr>
          <p:nvPr>
            <p:ph/>
          </p:nvPr>
        </p:nvSpPr>
        <p:spPr>
          <a:xfrm>
            <a:off x="106668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Lesson plans reflect use of student learning styles.</a:t>
            </a:r>
            <a:endParaRPr b="0" lang="en-US" sz="4000" spc="-1" strike="noStrike">
              <a:solidFill>
                <a:srgbClr val="000000"/>
              </a:solidFill>
              <a:latin typeface="Calibri"/>
            </a:endParaRPr>
          </a:p>
        </p:txBody>
      </p:sp>
      <p:sp>
        <p:nvSpPr>
          <p:cNvPr id="1716" name="PlaceHolder 2"/>
          <p:cNvSpPr>
            <a:spLocks noGrp="1"/>
          </p:cNvSpPr>
          <p:nvPr>
            <p:ph/>
          </p:nvPr>
        </p:nvSpPr>
        <p:spPr>
          <a:xfrm>
            <a:off x="99072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mall group instruction is consistently adjusted to meet the needs of students.</a:t>
            </a:r>
            <a:endParaRPr b="0" lang="en-US" sz="4000" spc="-1" strike="noStrike">
              <a:solidFill>
                <a:srgbClr val="000000"/>
              </a:solidFill>
              <a:latin typeface="Calibri"/>
            </a:endParaRPr>
          </a:p>
        </p:txBody>
      </p:sp>
      <p:sp>
        <p:nvSpPr>
          <p:cNvPr id="1718" name="PlaceHolder 2"/>
          <p:cNvSpPr>
            <a:spLocks noGrp="1"/>
          </p:cNvSpPr>
          <p:nvPr>
            <p:ph/>
          </p:nvPr>
        </p:nvSpPr>
        <p:spPr>
          <a:xfrm>
            <a:off x="129528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3</a:t>
            </a:r>
            <a:br>
              <a:rPr sz="4400"/>
            </a:br>
            <a:endParaRPr b="0" lang="en-US" sz="4400" spc="-1" strike="noStrike">
              <a:solidFill>
                <a:srgbClr val="000000"/>
              </a:solidFill>
              <a:latin typeface="Calibri"/>
            </a:endParaRPr>
          </a:p>
        </p:txBody>
      </p:sp>
      <p:sp>
        <p:nvSpPr>
          <p:cNvPr id="1720" name=""/>
          <p:cNvSpPr txBox="1"/>
          <p:nvPr/>
        </p:nvSpPr>
        <p:spPr>
          <a:xfrm>
            <a:off x="457200" y="1600200"/>
            <a:ext cx="86868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1:  Teachers demonstrate leadership.</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A: Teachers lead in their classroo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tudents in the classroom are risk takers and seek to collaborate with each other.</a:t>
            </a:r>
            <a:endParaRPr b="0" lang="en-US" sz="4000" spc="-1" strike="noStrike">
              <a:solidFill>
                <a:srgbClr val="000000"/>
              </a:solidFill>
              <a:latin typeface="Calibri"/>
            </a:endParaRPr>
          </a:p>
        </p:txBody>
      </p:sp>
      <p:sp>
        <p:nvSpPr>
          <p:cNvPr id="1722" name=""/>
          <p:cNvSpPr txBox="1"/>
          <p:nvPr/>
        </p:nvSpPr>
        <p:spPr>
          <a:xfrm>
            <a:off x="914400" y="2895480"/>
            <a:ext cx="7391520" cy="28195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Classroom rules are posted and students are aware of procedures.</a:t>
            </a:r>
            <a:endParaRPr b="0" lang="en-US" sz="4000" spc="-1" strike="noStrike">
              <a:solidFill>
                <a:srgbClr val="000000"/>
              </a:solidFill>
              <a:latin typeface="Calibri"/>
            </a:endParaRPr>
          </a:p>
        </p:txBody>
      </p:sp>
      <p:sp>
        <p:nvSpPr>
          <p:cNvPr id="1724" name="PlaceHolder 2"/>
          <p:cNvSpPr>
            <a:spLocks noGrp="1"/>
          </p:cNvSpPr>
          <p:nvPr>
            <p:ph/>
          </p:nvPr>
        </p:nvSpPr>
        <p:spPr>
          <a:xfrm>
            <a:off x="914400" y="23320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4</a:t>
            </a:r>
            <a:br>
              <a:rPr sz="4400"/>
            </a:br>
            <a:endParaRPr b="0" lang="en-US" sz="4400" spc="-1" strike="noStrike">
              <a:solidFill>
                <a:srgbClr val="000000"/>
              </a:solidFill>
              <a:latin typeface="Calibri"/>
            </a:endParaRPr>
          </a:p>
        </p:txBody>
      </p:sp>
      <p:sp>
        <p:nvSpPr>
          <p:cNvPr id="1726" name=""/>
          <p:cNvSpPr txBox="1"/>
          <p:nvPr/>
        </p:nvSpPr>
        <p:spPr>
          <a:xfrm>
            <a:off x="456840" y="1600200"/>
            <a:ext cx="838188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3:  Teachers know the content they tea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C:  Teachers recognize the interconnectedness of content areas/disciplin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990360"/>
            <a:ext cx="82296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My teachers have completed their 2011 PDP and Self-Assessment</a:t>
            </a:r>
            <a:r>
              <a:rPr b="1" lang="en-US" sz="4400" spc="-1" strike="noStrike">
                <a:solidFill>
                  <a:srgbClr val="ff0000"/>
                </a:solidFill>
                <a:latin typeface="Calibri"/>
              </a:rPr>
              <a:t>.</a:t>
            </a:r>
            <a:endParaRPr b="0" lang="en-US" sz="4400" spc="-1" strike="noStrike">
              <a:solidFill>
                <a:srgbClr val="000000"/>
              </a:solidFill>
              <a:latin typeface="Calibri"/>
            </a:endParaRPr>
          </a:p>
        </p:txBody>
      </p:sp>
      <p:sp>
        <p:nvSpPr>
          <p:cNvPr id="1618" name="PlaceHolder 2"/>
          <p:cNvSpPr>
            <a:spLocks noGrp="1"/>
          </p:cNvSpPr>
          <p:nvPr>
            <p:ph/>
          </p:nvPr>
        </p:nvSpPr>
        <p:spPr>
          <a:xfrm>
            <a:off x="457200" y="2819160"/>
            <a:ext cx="8229600" cy="2925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1- 100%</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less than 50%</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eacher integrate current events from around the world into his daily lessons.</a:t>
            </a:r>
            <a:endParaRPr b="0" lang="en-US" sz="4000" spc="-1" strike="noStrike">
              <a:solidFill>
                <a:srgbClr val="000000"/>
              </a:solidFill>
              <a:latin typeface="Calibri"/>
            </a:endParaRPr>
          </a:p>
        </p:txBody>
      </p:sp>
      <p:sp>
        <p:nvSpPr>
          <p:cNvPr id="1728" name="PlaceHolder 2"/>
          <p:cNvSpPr>
            <a:spLocks noGrp="1"/>
          </p:cNvSpPr>
          <p:nvPr>
            <p:ph/>
          </p:nvPr>
        </p:nvSpPr>
        <p:spPr>
          <a:xfrm>
            <a:off x="914400" y="281952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FOCUS #5</a:t>
            </a:r>
            <a:br>
              <a:rPr sz="4400"/>
            </a:br>
            <a:endParaRPr b="0" lang="en-US" sz="4400" spc="-1" strike="noStrike">
              <a:solidFill>
                <a:srgbClr val="000000"/>
              </a:solidFill>
              <a:latin typeface="Calibri"/>
            </a:endParaRPr>
          </a:p>
        </p:txBody>
      </p:sp>
      <p:sp>
        <p:nvSpPr>
          <p:cNvPr id="173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Standard 4:  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eea"/>
                </a:solidFill>
                <a:latin typeface="Calibri"/>
              </a:rPr>
              <a:t>Element C:  Teachers use a variety of instructional mate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How Would You Rate this Teacher?</a:t>
            </a:r>
            <a:endParaRPr b="0" lang="en-US" sz="4400" spc="-1" strike="noStrike">
              <a:solidFill>
                <a:srgbClr val="000000"/>
              </a:solidFill>
              <a:latin typeface="Calibri"/>
            </a:endParaRPr>
          </a:p>
        </p:txBody>
      </p:sp>
      <p:sp>
        <p:nvSpPr>
          <p:cNvPr id="1732" name=""/>
          <p:cNvSpPr txBox="1"/>
          <p:nvPr/>
        </p:nvSpPr>
        <p:spPr>
          <a:xfrm>
            <a:off x="304920" y="1905120"/>
            <a:ext cx="861048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r. Patterson develops lesson plans that reflect integration of technology and learning styles each week.  He uses KWL charts to activate prior knowledge in students.  He occasionally uses graphic organizers to enhance instruction.  His lessons often instruct students on the use of information technology.   He attends staff development on differenti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How Would You Rate this Teacher?</a:t>
            </a:r>
            <a:endParaRPr b="0" lang="en-US" sz="4400" spc="-1" strike="noStrike">
              <a:solidFill>
                <a:srgbClr val="000000"/>
              </a:solidFill>
              <a:latin typeface="Calibri"/>
            </a:endParaRPr>
          </a:p>
        </p:txBody>
      </p:sp>
      <p:sp>
        <p:nvSpPr>
          <p:cNvPr id="1734" name="PlaceHolder 2"/>
          <p:cNvSpPr>
            <a:spLocks noGrp="1"/>
          </p:cNvSpPr>
          <p:nvPr>
            <p:ph/>
          </p:nvPr>
        </p:nvSpPr>
        <p:spPr>
          <a:xfrm>
            <a:off x="1371600" y="190512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The Sixth Standard for Teachers:</a:t>
            </a:r>
            <a:endParaRPr b="0" lang="en-US" sz="4400" spc="-1" strike="noStrike">
              <a:solidFill>
                <a:srgbClr val="000000"/>
              </a:solidFill>
              <a:latin typeface="Calibri"/>
            </a:endParaRPr>
          </a:p>
        </p:txBody>
      </p:sp>
      <p:pic>
        <p:nvPicPr>
          <p:cNvPr id="1736" name="Picture 2" descr=""/>
          <p:cNvPicPr/>
          <p:nvPr/>
        </p:nvPicPr>
        <p:blipFill>
          <a:blip r:embed="rId1"/>
          <a:srcRect l="0" t="16851" r="0" b="0"/>
          <a:stretch/>
        </p:blipFill>
        <p:spPr>
          <a:xfrm>
            <a:off x="447840" y="1384200"/>
            <a:ext cx="8238960" cy="4635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he Eighth Standard for Administrators:</a:t>
            </a:r>
            <a:endParaRPr b="0" lang="en-US" sz="3600" spc="-1" strike="noStrike">
              <a:solidFill>
                <a:srgbClr val="000000"/>
              </a:solidFill>
              <a:latin typeface="Calibri"/>
            </a:endParaRPr>
          </a:p>
        </p:txBody>
      </p:sp>
      <p:pic>
        <p:nvPicPr>
          <p:cNvPr id="1738" name="Picture 2" descr=""/>
          <p:cNvPicPr/>
          <p:nvPr/>
        </p:nvPicPr>
        <p:blipFill>
          <a:blip r:embed="rId1"/>
          <a:stretch/>
        </p:blipFill>
        <p:spPr>
          <a:xfrm>
            <a:off x="380880" y="1501920"/>
            <a:ext cx="8458200" cy="4441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9" name="Diagram 5" descr=""/>
          <p:cNvPicPr/>
          <p:nvPr/>
        </p:nvPicPr>
        <p:blipFill>
          <a:blip r:embed="rId1"/>
          <a:stretch/>
        </p:blipFill>
        <p:spPr>
          <a:xfrm>
            <a:off x="901800" y="1030320"/>
            <a:ext cx="7188120" cy="2700360"/>
          </a:xfrm>
          <a:prstGeom prst="rect">
            <a:avLst/>
          </a:prstGeom>
          <a:ln w="0">
            <a:noFill/>
          </a:ln>
        </p:spPr>
      </p:pic>
      <p:pic>
        <p:nvPicPr>
          <p:cNvPr id="1740" name="Diagram 7" descr=""/>
          <p:cNvPicPr/>
          <p:nvPr/>
        </p:nvPicPr>
        <p:blipFill>
          <a:blip r:embed="rId2"/>
          <a:stretch/>
        </p:blipFill>
        <p:spPr>
          <a:xfrm>
            <a:off x="901800" y="3700440"/>
            <a:ext cx="7188120" cy="2700360"/>
          </a:xfrm>
          <a:prstGeom prst="rect">
            <a:avLst/>
          </a:prstGeom>
          <a:ln w="0">
            <a:noFill/>
          </a:ln>
        </p:spPr>
      </p:pic>
      <p:sp>
        <p:nvSpPr>
          <p:cNvPr id="1741" name="Rectangle 8"/>
          <p:cNvSpPr/>
          <p:nvPr/>
        </p:nvSpPr>
        <p:spPr>
          <a:xfrm>
            <a:off x="1578960" y="304920"/>
            <a:ext cx="585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Times New Roman"/>
              </a:rPr>
              <a:t>Effective Teache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ule Release Updates</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0" lang="en-US" sz="4400" spc="-1" strike="noStrike" u="sng">
                <a:solidFill>
                  <a:srgbClr val="ff0000"/>
                </a:solidFill>
                <a:uFillTx/>
                <a:latin typeface="Calibri"/>
                <a:hlinkClick r:id="rId1"/>
              </a:rPr>
              <a:t>http://center.ncsu.edu/nc</a:t>
            </a:r>
            <a:r>
              <a:rPr b="1"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743" name="Content Placeholder 3" descr=""/>
          <p:cNvPicPr/>
          <p:nvPr/>
        </p:nvPicPr>
        <p:blipFill>
          <a:blip r:embed="rId2"/>
          <a:stretch/>
        </p:blipFill>
        <p:spPr>
          <a:xfrm>
            <a:off x="669960" y="1584360"/>
            <a:ext cx="7808760" cy="451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4" name="Picture 5" descr="questions.jpg"/>
          <p:cNvPicPr/>
          <p:nvPr/>
        </p:nvPicPr>
        <p:blipFill>
          <a:blip r:embed="rId1"/>
          <a:stretch/>
        </p:blipFill>
        <p:spPr>
          <a:xfrm>
            <a:off x="990720" y="685800"/>
            <a:ext cx="6949800" cy="521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533520" y="1447920"/>
            <a:ext cx="82296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I feel comfortable with using the NC Evaluation system to complete  an observation and summative for my teachers.</a:t>
            </a:r>
            <a:br>
              <a:rPr sz="3600"/>
            </a:br>
            <a:br>
              <a:rPr sz="3600"/>
            </a:br>
            <a:r>
              <a:rPr b="0" lang="en-US" sz="3600" spc="-1" strike="noStrike">
                <a:solidFill>
                  <a:srgbClr val="000000"/>
                </a:solidFill>
                <a:latin typeface="Calibri"/>
              </a:rPr>
              <a:t> Scale 1 to 4</a:t>
            </a:r>
            <a:br>
              <a:rPr sz="3600"/>
            </a:br>
            <a:r>
              <a:rPr b="0" lang="en-US" sz="2800" spc="-1" strike="noStrike">
                <a:solidFill>
                  <a:srgbClr val="000000"/>
                </a:solidFill>
                <a:latin typeface="Calibri"/>
              </a:rPr>
              <a:t>1- not comfortable</a:t>
            </a:r>
            <a:br>
              <a:rPr sz="2800"/>
            </a:br>
            <a:r>
              <a:rPr b="0" lang="en-US" sz="2800" spc="-1" strike="noStrike">
                <a:solidFill>
                  <a:srgbClr val="000000"/>
                </a:solidFill>
                <a:latin typeface="Calibri"/>
              </a:rPr>
              <a:t>4- very comfort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Placeholder 4" descr="Teaching Standards.png"/>
          <p:cNvPicPr/>
          <p:nvPr/>
        </p:nvPicPr>
        <p:blipFill>
          <a:blip r:embed="rId1"/>
          <a:srcRect l="0" t="20108" r="0" b="20108"/>
          <a:stretch/>
        </p:blipFill>
        <p:spPr>
          <a:xfrm>
            <a:off x="304920" y="1447920"/>
            <a:ext cx="1981080" cy="1600200"/>
          </a:xfrm>
          <a:prstGeom prst="rect">
            <a:avLst/>
          </a:prstGeom>
          <a:ln w="9360">
            <a:solidFill>
              <a:srgbClr val="000000"/>
            </a:solidFill>
            <a:miter/>
          </a:ln>
        </p:spPr>
      </p:pic>
      <p:pic>
        <p:nvPicPr>
          <p:cNvPr id="1620" name="Picture 2" descr=""/>
          <p:cNvPicPr/>
          <p:nvPr/>
        </p:nvPicPr>
        <p:blipFill>
          <a:blip r:embed="rId2"/>
          <a:stretch/>
        </p:blipFill>
        <p:spPr>
          <a:xfrm>
            <a:off x="228600" y="3733920"/>
            <a:ext cx="1984320" cy="1487520"/>
          </a:xfrm>
          <a:prstGeom prst="rect">
            <a:avLst/>
          </a:prstGeom>
          <a:ln w="9360">
            <a:solidFill>
              <a:srgbClr val="000000"/>
            </a:solidFill>
            <a:miter/>
          </a:ln>
        </p:spPr>
      </p:pic>
      <p:pic>
        <p:nvPicPr>
          <p:cNvPr id="1621" name="Picture 7" descr=""/>
          <p:cNvPicPr/>
          <p:nvPr/>
        </p:nvPicPr>
        <p:blipFill>
          <a:blip r:embed="rId3"/>
          <a:stretch/>
        </p:blipFill>
        <p:spPr>
          <a:xfrm>
            <a:off x="3733920" y="1523880"/>
            <a:ext cx="2181240" cy="2819520"/>
          </a:xfrm>
          <a:prstGeom prst="rect">
            <a:avLst/>
          </a:prstGeom>
          <a:ln w="9360">
            <a:solidFill>
              <a:srgbClr val="000000"/>
            </a:solidFill>
            <a:miter/>
          </a:ln>
        </p:spPr>
      </p:pic>
      <p:sp>
        <p:nvSpPr>
          <p:cNvPr id="1622" name="Right Arrow 9"/>
          <p:cNvSpPr/>
          <p:nvPr/>
        </p:nvSpPr>
        <p:spPr>
          <a:xfrm>
            <a:off x="2743200" y="3124080"/>
            <a:ext cx="990720" cy="609840"/>
          </a:xfrm>
          <a:prstGeom prst="rightArrow">
            <a:avLst>
              <a:gd name="adj1" fmla="val 50000"/>
              <a:gd name="adj2" fmla="val 49985"/>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Right Arrow 10"/>
          <p:cNvSpPr/>
          <p:nvPr/>
        </p:nvSpPr>
        <p:spPr>
          <a:xfrm>
            <a:off x="6019920" y="3124080"/>
            <a:ext cx="990360" cy="609840"/>
          </a:xfrm>
          <a:prstGeom prst="rightArrow">
            <a:avLst>
              <a:gd name="adj1" fmla="val 50000"/>
              <a:gd name="adj2" fmla="val 49967"/>
            </a:avLst>
          </a:prstGeom>
          <a:solidFill>
            <a:srgbClr val="51daff"/>
          </a:solid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Right Brace 12"/>
          <p:cNvSpPr/>
          <p:nvPr/>
        </p:nvSpPr>
        <p:spPr>
          <a:xfrm>
            <a:off x="2362320" y="1676520"/>
            <a:ext cx="457200" cy="3581280"/>
          </a:xfrm>
          <a:custGeom>
            <a:avLst/>
            <a:gdLst>
              <a:gd name="textAreaLeft" fmla="*/ 0 w 457200"/>
              <a:gd name="textAreaRight" fmla="*/ 164880 w 457200"/>
              <a:gd name="textAreaTop" fmla="*/ 11880 h 3581280"/>
              <a:gd name="textAreaBottom" fmla="*/ 3569400 h 3581280"/>
            </a:gdLst>
            <a:ahLst/>
            <a:rect l="textAreaLeft" t="textAreaTop" r="textAreaRight" b="textAreaBottom"/>
            <a:pathLst>
              <a:path w="21600" h="21600">
                <a:moveTo>
                  <a:pt x="0" y="0"/>
                </a:moveTo>
                <a:cubicBezTo>
                  <a:pt x="5400" y="0"/>
                  <a:pt x="10800" y="115"/>
                  <a:pt x="10800" y="230"/>
                </a:cubicBezTo>
                <a:lnTo>
                  <a:pt x="10800" y="10570"/>
                </a:lnTo>
                <a:cubicBezTo>
                  <a:pt x="10800" y="10685"/>
                  <a:pt x="16200" y="10800"/>
                  <a:pt x="21600" y="10800"/>
                </a:cubicBezTo>
                <a:cubicBezTo>
                  <a:pt x="16200" y="10800"/>
                  <a:pt x="10800" y="10915"/>
                  <a:pt x="10800" y="11030"/>
                </a:cubicBezTo>
                <a:lnTo>
                  <a:pt x="10800" y="21370"/>
                </a:lnTo>
                <a:cubicBezTo>
                  <a:pt x="10800" y="21485"/>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13"/>
          <p:cNvSpPr/>
          <p:nvPr/>
        </p:nvSpPr>
        <p:spPr>
          <a:xfrm>
            <a:off x="5943600" y="3276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s</a:t>
            </a:r>
            <a:endParaRPr b="0" lang="en-US" sz="1800" spc="-1" strike="noStrike">
              <a:solidFill>
                <a:srgbClr val="000000"/>
              </a:solidFill>
              <a:latin typeface="Arial"/>
            </a:endParaRPr>
          </a:p>
        </p:txBody>
      </p:sp>
      <p:sp>
        <p:nvSpPr>
          <p:cNvPr id="1626" name="TextBox 25"/>
          <p:cNvSpPr/>
          <p:nvPr/>
        </p:nvSpPr>
        <p:spPr>
          <a:xfrm>
            <a:off x="3048120" y="5257800"/>
            <a:ext cx="4267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sessing teacher performance</a:t>
            </a:r>
            <a:endParaRPr b="0" lang="en-US" sz="18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ing a professional growth plan</a:t>
            </a:r>
            <a:endParaRPr b="0" lang="en-US" sz="1800" spc="-1" strike="noStrike">
              <a:solidFill>
                <a:srgbClr val="000000"/>
              </a:solidFill>
              <a:latin typeface="Arial"/>
            </a:endParaRPr>
          </a:p>
        </p:txBody>
      </p:sp>
      <p:sp>
        <p:nvSpPr>
          <p:cNvPr id="1627" name="Right Arrow 15"/>
          <p:cNvSpPr/>
          <p:nvPr/>
        </p:nvSpPr>
        <p:spPr>
          <a:xfrm rot="5400000">
            <a:off x="4381560" y="4533840"/>
            <a:ext cx="838080" cy="609840"/>
          </a:xfrm>
          <a:prstGeom prst="rightArrow">
            <a:avLst>
              <a:gd name="adj1" fmla="val 50000"/>
              <a:gd name="adj2" fmla="val 49976"/>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
          <p:cNvSpPr/>
          <p:nvPr/>
        </p:nvSpPr>
        <p:spPr>
          <a:xfrm>
            <a:off x="762120" y="304920"/>
            <a:ext cx="77724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valuation Instrument</a:t>
            </a:r>
            <a:endParaRPr b="0" lang="en-US" sz="4400" spc="-1" strike="noStrike">
              <a:solidFill>
                <a:srgbClr val="000000"/>
              </a:solidFill>
              <a:latin typeface="Arial"/>
            </a:endParaRPr>
          </a:p>
        </p:txBody>
      </p:sp>
      <p:sp>
        <p:nvSpPr>
          <p:cNvPr id="1629" name="Rectangle 18"/>
          <p:cNvSpPr/>
          <p:nvPr/>
        </p:nvSpPr>
        <p:spPr>
          <a:xfrm>
            <a:off x="7010280" y="1447920"/>
            <a:ext cx="1905120" cy="350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ctive</a:t>
            </a:r>
            <a:br>
              <a:rPr sz="2800"/>
            </a:br>
            <a:r>
              <a:rPr b="1" lang="en-US" sz="2800" spc="-1" strike="noStrike">
                <a:solidFill>
                  <a:srgbClr val="000000"/>
                </a:solidFill>
                <a:latin typeface="Calibri"/>
              </a:rPr>
              <a:t>Leadership</a:t>
            </a:r>
            <a:br>
              <a:rPr sz="2800"/>
            </a:br>
            <a:br>
              <a:rPr sz="2800"/>
            </a:br>
            <a:r>
              <a:rPr b="1" lang="en-US" sz="2800" spc="-1" strike="noStrike">
                <a:solidFill>
                  <a:srgbClr val="000000"/>
                </a:solidFill>
                <a:latin typeface="Calibri"/>
              </a:rPr>
              <a:t>Student</a:t>
            </a:r>
            <a:br>
              <a:rPr sz="2800"/>
            </a:br>
            <a:r>
              <a:rPr b="1" lang="en-US" sz="2800" spc="-1" strike="noStrike">
                <a:solidFill>
                  <a:srgbClr val="000000"/>
                </a:solidFill>
                <a:latin typeface="Calibri"/>
              </a:rPr>
              <a:t>Learning</a:t>
            </a:r>
            <a:br>
              <a:rPr sz="2800"/>
            </a:br>
            <a:br>
              <a:rPr sz="2800"/>
            </a:br>
            <a:r>
              <a:rPr b="1" lang="en-US" sz="2800" spc="-1" strike="noStrike">
                <a:solidFill>
                  <a:srgbClr val="000000"/>
                </a:solidFill>
                <a:latin typeface="Calibri"/>
              </a:rPr>
              <a:t>Quality </a:t>
            </a:r>
            <a:br>
              <a:rPr sz="2800"/>
            </a:br>
            <a:r>
              <a:rPr b="1" lang="en-US" sz="2800" spc="-1" strike="noStrike">
                <a:solidFill>
                  <a:srgbClr val="000000"/>
                </a:solidFill>
                <a:latin typeface="Calibri"/>
              </a:rPr>
              <a:t>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ff0000"/>
                </a:solidFill>
                <a:latin typeface="Calibri"/>
              </a:rPr>
              <a:t>Region 1</a:t>
            </a:r>
            <a:br>
              <a:rPr sz="3600"/>
            </a:br>
            <a:r>
              <a:rPr b="1" lang="en-US" sz="3600" spc="-1" strike="noStrike">
                <a:solidFill>
                  <a:srgbClr val="ff0000"/>
                </a:solidFill>
                <a:latin typeface="Calibri"/>
              </a:rPr>
              <a:t>Professional Development Consultants</a:t>
            </a:r>
            <a:br>
              <a:rPr sz="3600"/>
            </a:br>
            <a:endParaRPr b="0" lang="en-US" sz="3600" spc="-1" strike="noStrike">
              <a:solidFill>
                <a:srgbClr val="000000"/>
              </a:solidFill>
              <a:latin typeface="Calibri"/>
            </a:endParaRPr>
          </a:p>
        </p:txBody>
      </p:sp>
      <p:sp>
        <p:nvSpPr>
          <p:cNvPr id="1747" name=""/>
          <p:cNvSpPr txBox="1"/>
          <p:nvPr/>
        </p:nvSpPr>
        <p:spPr>
          <a:xfrm>
            <a:off x="304560" y="1600200"/>
            <a:ext cx="419076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rti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amd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urritu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denton-Chowa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lizabeth City-Pasquotan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Gat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erquima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48" name=""/>
          <p:cNvSpPr txBox="1"/>
          <p:nvPr/>
        </p:nvSpPr>
        <p:spPr>
          <a:xfrm>
            <a:off x="4571640" y="1905120"/>
            <a:ext cx="4343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aufor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ertfor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yd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Marti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it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Tyrrel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Washingto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9" name="Picture 3" descr=""/>
          <p:cNvPicPr/>
          <p:nvPr/>
        </p:nvPicPr>
        <p:blipFill>
          <a:blip r:embed="rId1"/>
          <a:stretch/>
        </p:blipFill>
        <p:spPr>
          <a:xfrm rot="20986200">
            <a:off x="6490800" y="210600"/>
            <a:ext cx="2529000" cy="1619280"/>
          </a:xfrm>
          <a:prstGeom prst="rect">
            <a:avLst/>
          </a:prstGeom>
          <a:ln w="0">
            <a:noFill/>
          </a:ln>
        </p:spPr>
      </p:pic>
      <p:sp>
        <p:nvSpPr>
          <p:cNvPr id="1750"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Calibri"/>
              </a:rPr>
              <a:t>Ticket out the Door</a:t>
            </a:r>
            <a:endParaRPr b="0" lang="en-US" sz="5400" spc="-1" strike="noStrike">
              <a:solidFill>
                <a:srgbClr val="000000"/>
              </a:solidFill>
              <a:latin typeface="Calibri"/>
            </a:endParaRPr>
          </a:p>
        </p:txBody>
      </p:sp>
      <p:sp>
        <p:nvSpPr>
          <p:cNvPr id="1751" name=""/>
          <p:cNvSpPr txBox="1"/>
          <p:nvPr/>
        </p:nvSpPr>
        <p:spPr>
          <a:xfrm>
            <a:off x="457200" y="1981080"/>
            <a:ext cx="8229600" cy="4525920"/>
          </a:xfrm>
          <a:prstGeom prst="rect">
            <a:avLst/>
          </a:prstGeom>
          <a:noFill/>
          <a:ln w="0">
            <a:noFill/>
          </a:ln>
        </p:spPr>
        <p:txBody>
          <a:bodyPr anchor="t">
            <a:normAutofit fontScale="95000"/>
          </a:bodyPr>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You may complete the </a:t>
            </a:r>
            <a:endParaRPr b="0" lang="en-US" sz="4800" spc="-1" strike="noStrike">
              <a:solidFill>
                <a:srgbClr val="000000"/>
              </a:solidFill>
              <a:latin typeface="Calibri"/>
            </a:endParaRPr>
          </a:p>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Narrow"/>
              </a:rPr>
              <a:t>Ticket out the Door </a:t>
            </a:r>
            <a:endParaRPr b="0" lang="en-US" sz="4800" spc="-1" strike="noStrike">
              <a:solidFill>
                <a:srgbClr val="000000"/>
              </a:solidFill>
              <a:latin typeface="Calibri"/>
            </a:endParaRPr>
          </a:p>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by clicking below</a:t>
            </a:r>
            <a:endParaRPr b="0" lang="en-US" sz="4800" spc="-1" strike="noStrike">
              <a:solidFill>
                <a:srgbClr val="000000"/>
              </a:solidFill>
              <a:latin typeface="Calibri"/>
            </a:endParaRPr>
          </a:p>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Arial Narrow"/>
                <a:hlinkClick r:id="rId2"/>
              </a:rPr>
              <a:t>Reflection</a:t>
            </a:r>
            <a:endParaRPr b="0" lang="en-US" sz="4800" spc="-1" strike="noStrike">
              <a:solidFill>
                <a:srgbClr val="000000"/>
              </a:solidFill>
              <a:latin typeface="Calibri"/>
            </a:endParaRPr>
          </a:p>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https://docs.google.com/spreadsheet/viewform?formkey=dFRBTUh5aDVaTmFaMTNlamw3ZkZHOUE6MQ#gid=0</a:t>
            </a:r>
            <a:endParaRPr b="0" lang="en-US" sz="2800" spc="-1" strike="noStrike">
              <a:solidFill>
                <a:srgbClr val="000000"/>
              </a:solidFill>
              <a:latin typeface="Calibri"/>
            </a:endParaRPr>
          </a:p>
          <a:p>
            <a:pPr marL="325800" indent="-325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2"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53"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Principal’s Responsibility</a:t>
            </a:r>
            <a:endParaRPr b="0" lang="en-US" sz="4400" spc="-1" strike="noStrike">
              <a:solidFill>
                <a:srgbClr val="000000"/>
              </a:solidFill>
              <a:latin typeface="Calibri"/>
            </a:endParaRPr>
          </a:p>
        </p:txBody>
      </p:sp>
      <p:pic>
        <p:nvPicPr>
          <p:cNvPr id="1631" name="Content Placeholder 3" descr=""/>
          <p:cNvPicPr/>
          <p:nvPr/>
        </p:nvPicPr>
        <p:blipFill>
          <a:blip r:embed="rId1"/>
          <a:stretch/>
        </p:blipFill>
        <p:spPr>
          <a:xfrm>
            <a:off x="450720" y="1414440"/>
            <a:ext cx="8242560" cy="4718160"/>
          </a:xfrm>
          <a:prstGeom prst="rect">
            <a:avLst/>
          </a:prstGeom>
          <a:ln w="0">
            <a:noFill/>
          </a:ln>
        </p:spPr>
      </p:pic>
      <p:grpSp>
        <p:nvGrpSpPr>
          <p:cNvPr id="1632" name="Rounded Rectangle 4"/>
          <p:cNvGrpSpPr/>
          <p:nvPr/>
        </p:nvGrpSpPr>
        <p:grpSpPr>
          <a:xfrm>
            <a:off x="3840120" y="1785960"/>
            <a:ext cx="1470240" cy="927000"/>
            <a:chOff x="3840120" y="1785960"/>
            <a:chExt cx="1470240" cy="927000"/>
          </a:xfrm>
        </p:grpSpPr>
        <p:pic>
          <p:nvPicPr>
            <p:cNvPr id="1633" name="Rounded Rectangle 4" descr=""/>
            <p:cNvPicPr/>
            <p:nvPr/>
          </p:nvPicPr>
          <p:blipFill>
            <a:blip r:embed="rId2"/>
            <a:stretch/>
          </p:blipFill>
          <p:spPr>
            <a:xfrm>
              <a:off x="3840120" y="1785960"/>
              <a:ext cx="1470240" cy="927000"/>
            </a:xfrm>
            <a:prstGeom prst="rect">
              <a:avLst/>
            </a:prstGeom>
            <a:ln w="0">
              <a:noFill/>
            </a:ln>
          </p:spPr>
        </p:pic>
        <p:sp>
          <p:nvSpPr>
            <p:cNvPr id="1634" name=""/>
            <p:cNvSpPr/>
            <p:nvPr/>
          </p:nvSpPr>
          <p:spPr>
            <a:xfrm>
              <a:off x="3859200" y="1801800"/>
              <a:ext cx="1438200" cy="9018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Teacher Evaluation Process</a:t>
            </a:r>
            <a:br>
              <a:rPr sz="4400"/>
            </a:br>
            <a:endParaRPr b="0" lang="en-US" sz="4400" spc="-1" strike="noStrike">
              <a:solidFill>
                <a:srgbClr val="000000"/>
              </a:solidFill>
              <a:latin typeface="Calibri"/>
            </a:endParaRPr>
          </a:p>
        </p:txBody>
      </p:sp>
      <p:grpSp>
        <p:nvGrpSpPr>
          <p:cNvPr id="1637" name="Group 21"/>
          <p:cNvGrpSpPr/>
          <p:nvPr/>
        </p:nvGrpSpPr>
        <p:grpSpPr>
          <a:xfrm>
            <a:off x="1828800" y="1676520"/>
            <a:ext cx="5562720" cy="4267080"/>
            <a:chOff x="1828800" y="1676520"/>
            <a:chExt cx="5562720" cy="4267080"/>
          </a:xfrm>
        </p:grpSpPr>
        <p:grpSp>
          <p:nvGrpSpPr>
            <p:cNvPr id="1638" name="Group 7"/>
            <p:cNvGrpSpPr/>
            <p:nvPr/>
          </p:nvGrpSpPr>
          <p:grpSpPr>
            <a:xfrm>
              <a:off x="1828800" y="1676520"/>
              <a:ext cx="2718720" cy="2084760"/>
              <a:chOff x="1828800" y="1676520"/>
              <a:chExt cx="2718720" cy="2084760"/>
            </a:xfrm>
          </p:grpSpPr>
          <p:grpSp>
            <p:nvGrpSpPr>
              <p:cNvPr id="1639" name="Pie 18"/>
              <p:cNvGrpSpPr/>
              <p:nvPr/>
            </p:nvGrpSpPr>
            <p:grpSpPr>
              <a:xfrm>
                <a:off x="1828800" y="1676520"/>
                <a:ext cx="2718720" cy="2084760"/>
                <a:chOff x="1828800" y="1676520"/>
                <a:chExt cx="2718720" cy="2084760"/>
              </a:xfrm>
            </p:grpSpPr>
            <p:pic>
              <p:nvPicPr>
                <p:cNvPr id="1640" name="Pie 18" descr=""/>
                <p:cNvPicPr/>
                <p:nvPr/>
              </p:nvPicPr>
              <p:blipFill>
                <a:blip r:embed="rId1"/>
                <a:stretch/>
              </p:blipFill>
              <p:spPr>
                <a:xfrm>
                  <a:off x="1828800" y="1676520"/>
                  <a:ext cx="2718720" cy="2084760"/>
                </a:xfrm>
                <a:prstGeom prst="rect">
                  <a:avLst/>
                </a:prstGeom>
                <a:ln w="0">
                  <a:noFill/>
                </a:ln>
              </p:spPr>
            </p:pic>
            <p:sp>
              <p:nvSpPr>
                <p:cNvPr id="1641" name=""/>
                <p:cNvSpPr/>
                <p:nvPr/>
              </p:nvSpPr>
              <p:spPr>
                <a:xfrm>
                  <a:off x="2639160" y="2301120"/>
                  <a:ext cx="188424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2" name="Pie 12"/>
              <p:cNvGrpSpPr/>
              <p:nvPr/>
            </p:nvGrpSpPr>
            <p:grpSpPr>
              <a:xfrm>
                <a:off x="2067480" y="1937880"/>
                <a:ext cx="2467800" cy="1811520"/>
                <a:chOff x="2067480" y="1937880"/>
                <a:chExt cx="2467800" cy="1811520"/>
              </a:xfrm>
            </p:grpSpPr>
            <p:pic>
              <p:nvPicPr>
                <p:cNvPr id="1643" name="Pie 12" descr=""/>
                <p:cNvPicPr/>
                <p:nvPr/>
              </p:nvPicPr>
              <p:blipFill>
                <a:blip r:embed="rId2"/>
                <a:stretch/>
              </p:blipFill>
              <p:spPr>
                <a:xfrm>
                  <a:off x="2067480" y="1937880"/>
                  <a:ext cx="2467800" cy="1811520"/>
                </a:xfrm>
                <a:prstGeom prst="rect">
                  <a:avLst/>
                </a:prstGeom>
                <a:ln w="0">
                  <a:noFill/>
                </a:ln>
              </p:spPr>
            </p:pic>
            <p:sp>
              <p:nvSpPr>
                <p:cNvPr id="1644" name=""/>
                <p:cNvSpPr/>
                <p:nvPr/>
              </p:nvSpPr>
              <p:spPr>
                <a:xfrm>
                  <a:off x="2083320" y="1955160"/>
                  <a:ext cx="244008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1:</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Training and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rientation</a:t>
                  </a:r>
                  <a:endParaRPr b="0" lang="en-US" sz="1800" spc="-1" strike="noStrike">
                    <a:solidFill>
                      <a:srgbClr val="000000"/>
                    </a:solidFill>
                    <a:latin typeface="Arial"/>
                  </a:endParaRPr>
                </a:p>
              </p:txBody>
            </p:sp>
          </p:grpSp>
        </p:grpSp>
        <p:grpSp>
          <p:nvGrpSpPr>
            <p:cNvPr id="1645" name="Group 8"/>
            <p:cNvGrpSpPr/>
            <p:nvPr/>
          </p:nvGrpSpPr>
          <p:grpSpPr>
            <a:xfrm>
              <a:off x="4672800" y="1676520"/>
              <a:ext cx="2718720" cy="2084760"/>
              <a:chOff x="4672800" y="1676520"/>
              <a:chExt cx="2718720" cy="2084760"/>
            </a:xfrm>
          </p:grpSpPr>
          <p:grpSp>
            <p:nvGrpSpPr>
              <p:cNvPr id="1646" name="Pie 16"/>
              <p:cNvGrpSpPr/>
              <p:nvPr/>
            </p:nvGrpSpPr>
            <p:grpSpPr>
              <a:xfrm>
                <a:off x="4672800" y="1676520"/>
                <a:ext cx="2718720" cy="2084760"/>
                <a:chOff x="4672800" y="1676520"/>
                <a:chExt cx="2718720" cy="2084760"/>
              </a:xfrm>
            </p:grpSpPr>
            <p:pic>
              <p:nvPicPr>
                <p:cNvPr id="1647" name="Pie 16" descr=""/>
                <p:cNvPicPr/>
                <p:nvPr/>
              </p:nvPicPr>
              <p:blipFill>
                <a:blip r:embed="rId3"/>
                <a:stretch/>
              </p:blipFill>
              <p:spPr>
                <a:xfrm>
                  <a:off x="4672800" y="1676520"/>
                  <a:ext cx="2718720" cy="2084760"/>
                </a:xfrm>
                <a:prstGeom prst="rect">
                  <a:avLst/>
                </a:prstGeom>
                <a:ln w="0">
                  <a:noFill/>
                </a:ln>
              </p:spPr>
            </p:pic>
            <p:sp>
              <p:nvSpPr>
                <p:cNvPr id="1648" name=""/>
                <p:cNvSpPr/>
                <p:nvPr/>
              </p:nvSpPr>
              <p:spPr>
                <a:xfrm rot="5400000">
                  <a:off x="4926960" y="2079000"/>
                  <a:ext cx="1436400" cy="188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9" name="Pie 14"/>
              <p:cNvGrpSpPr/>
              <p:nvPr/>
            </p:nvGrpSpPr>
            <p:grpSpPr>
              <a:xfrm>
                <a:off x="4690440" y="1937880"/>
                <a:ext cx="2343240" cy="1811520"/>
                <a:chOff x="4690440" y="1937880"/>
                <a:chExt cx="2343240" cy="1811520"/>
              </a:xfrm>
            </p:grpSpPr>
            <p:pic>
              <p:nvPicPr>
                <p:cNvPr id="1650" name="Pie 14" descr=""/>
                <p:cNvPicPr/>
                <p:nvPr/>
              </p:nvPicPr>
              <p:blipFill>
                <a:blip r:embed="rId4"/>
                <a:stretch/>
              </p:blipFill>
              <p:spPr>
                <a:xfrm>
                  <a:off x="4690440" y="1937880"/>
                  <a:ext cx="2343240" cy="1811520"/>
                </a:xfrm>
                <a:prstGeom prst="rect">
                  <a:avLst/>
                </a:prstGeom>
                <a:ln w="0">
                  <a:noFill/>
                </a:ln>
              </p:spPr>
            </p:pic>
            <p:sp>
              <p:nvSpPr>
                <p:cNvPr id="1651" name=""/>
                <p:cNvSpPr/>
                <p:nvPr/>
              </p:nvSpPr>
              <p:spPr>
                <a:xfrm>
                  <a:off x="4705200" y="1955160"/>
                  <a:ext cx="231552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2:</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elf-Assessment, Goal Setting and Pre-Conference</a:t>
                  </a:r>
                  <a:endParaRPr b="0" lang="en-US" sz="1800" spc="-1" strike="noStrike">
                    <a:solidFill>
                      <a:srgbClr val="000000"/>
                    </a:solidFill>
                    <a:latin typeface="Arial"/>
                  </a:endParaRPr>
                </a:p>
              </p:txBody>
            </p:sp>
          </p:grpSp>
        </p:grpSp>
        <p:grpSp>
          <p:nvGrpSpPr>
            <p:cNvPr id="1652" name="Group 9"/>
            <p:cNvGrpSpPr/>
            <p:nvPr/>
          </p:nvGrpSpPr>
          <p:grpSpPr>
            <a:xfrm>
              <a:off x="4672800" y="3858840"/>
              <a:ext cx="2718720" cy="2084760"/>
              <a:chOff x="4672800" y="3858840"/>
              <a:chExt cx="2718720" cy="2084760"/>
            </a:xfrm>
          </p:grpSpPr>
          <p:grpSp>
            <p:nvGrpSpPr>
              <p:cNvPr id="1653" name="Pie 14"/>
              <p:cNvGrpSpPr/>
              <p:nvPr/>
            </p:nvGrpSpPr>
            <p:grpSpPr>
              <a:xfrm>
                <a:off x="4672800" y="3858840"/>
                <a:ext cx="2718720" cy="2084760"/>
                <a:chOff x="4672800" y="3858840"/>
                <a:chExt cx="2718720" cy="2084760"/>
              </a:xfrm>
            </p:grpSpPr>
            <p:pic>
              <p:nvPicPr>
                <p:cNvPr id="1654" name="Pie 14" descr=""/>
                <p:cNvPicPr/>
                <p:nvPr/>
              </p:nvPicPr>
              <p:blipFill>
                <a:blip r:embed="rId5"/>
                <a:stretch/>
              </p:blipFill>
              <p:spPr>
                <a:xfrm>
                  <a:off x="4672800" y="3858840"/>
                  <a:ext cx="2718720" cy="2084760"/>
                </a:xfrm>
                <a:prstGeom prst="rect">
                  <a:avLst/>
                </a:prstGeom>
                <a:ln w="0">
                  <a:noFill/>
                </a:ln>
              </p:spPr>
            </p:pic>
            <p:sp>
              <p:nvSpPr>
                <p:cNvPr id="1655" name=""/>
                <p:cNvSpPr/>
                <p:nvPr/>
              </p:nvSpPr>
              <p:spPr>
                <a:xfrm rot="10800000">
                  <a:off x="4705200" y="3888360"/>
                  <a:ext cx="188028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6" name="Pie 16"/>
              <p:cNvGrpSpPr/>
              <p:nvPr/>
            </p:nvGrpSpPr>
            <p:grpSpPr>
              <a:xfrm>
                <a:off x="4815720" y="3888360"/>
                <a:ext cx="2140560" cy="1675080"/>
                <a:chOff x="4815720" y="3888360"/>
                <a:chExt cx="2140560" cy="1675080"/>
              </a:xfrm>
            </p:grpSpPr>
            <p:pic>
              <p:nvPicPr>
                <p:cNvPr id="1657" name="Pie 16" descr=""/>
                <p:cNvPicPr/>
                <p:nvPr/>
              </p:nvPicPr>
              <p:blipFill>
                <a:blip r:embed="rId6"/>
                <a:stretch/>
              </p:blipFill>
              <p:spPr>
                <a:xfrm>
                  <a:off x="4815720" y="3888360"/>
                  <a:ext cx="2140560" cy="1675080"/>
                </a:xfrm>
                <a:prstGeom prst="rect">
                  <a:avLst/>
                </a:prstGeom>
                <a:ln w="0">
                  <a:noFill/>
                </a:ln>
              </p:spPr>
            </p:pic>
            <p:sp>
              <p:nvSpPr>
                <p:cNvPr id="1658" name=""/>
                <p:cNvSpPr/>
                <p:nvPr/>
              </p:nvSpPr>
              <p:spPr>
                <a:xfrm>
                  <a:off x="4830480" y="3905640"/>
                  <a:ext cx="2116800" cy="164304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3:</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bservation Cycle</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Administrative and Peer)</a:t>
                  </a:r>
                  <a:endParaRPr b="0" lang="en-US" sz="1800" spc="-1" strike="noStrike">
                    <a:solidFill>
                      <a:srgbClr val="000000"/>
                    </a:solidFill>
                    <a:latin typeface="Arial"/>
                  </a:endParaRPr>
                </a:p>
              </p:txBody>
            </p:sp>
          </p:grpSp>
        </p:grpSp>
        <p:grpSp>
          <p:nvGrpSpPr>
            <p:cNvPr id="1659" name="Group 10"/>
            <p:cNvGrpSpPr/>
            <p:nvPr/>
          </p:nvGrpSpPr>
          <p:grpSpPr>
            <a:xfrm>
              <a:off x="1828800" y="3858840"/>
              <a:ext cx="2718720" cy="2084760"/>
              <a:chOff x="1828800" y="3858840"/>
              <a:chExt cx="2718720" cy="2084760"/>
            </a:xfrm>
          </p:grpSpPr>
          <p:grpSp>
            <p:nvGrpSpPr>
              <p:cNvPr id="1660" name="Pie 12"/>
              <p:cNvGrpSpPr/>
              <p:nvPr/>
            </p:nvGrpSpPr>
            <p:grpSpPr>
              <a:xfrm>
                <a:off x="1828800" y="3858840"/>
                <a:ext cx="2718720" cy="2084760"/>
                <a:chOff x="1828800" y="3858840"/>
                <a:chExt cx="2718720" cy="2084760"/>
              </a:xfrm>
            </p:grpSpPr>
            <p:pic>
              <p:nvPicPr>
                <p:cNvPr id="1661" name="Pie 12" descr=""/>
                <p:cNvPicPr/>
                <p:nvPr/>
              </p:nvPicPr>
              <p:blipFill>
                <a:blip r:embed="rId7"/>
                <a:stretch/>
              </p:blipFill>
              <p:spPr>
                <a:xfrm>
                  <a:off x="1828800" y="3858840"/>
                  <a:ext cx="2718720" cy="2084760"/>
                </a:xfrm>
                <a:prstGeom prst="rect">
                  <a:avLst/>
                </a:prstGeom>
                <a:ln w="0">
                  <a:noFill/>
                </a:ln>
              </p:spPr>
            </p:pic>
            <p:sp>
              <p:nvSpPr>
                <p:cNvPr id="1662" name=""/>
                <p:cNvSpPr/>
                <p:nvPr/>
              </p:nvSpPr>
              <p:spPr>
                <a:xfrm rot="16200000">
                  <a:off x="2863080" y="3664440"/>
                  <a:ext cx="1436400" cy="1884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3" name="Pie 18"/>
              <p:cNvGrpSpPr/>
              <p:nvPr/>
            </p:nvGrpSpPr>
            <p:grpSpPr>
              <a:xfrm>
                <a:off x="2462040" y="3870720"/>
                <a:ext cx="2073600" cy="1675080"/>
                <a:chOff x="2462040" y="3870720"/>
                <a:chExt cx="2073600" cy="1675080"/>
              </a:xfrm>
            </p:grpSpPr>
            <p:pic>
              <p:nvPicPr>
                <p:cNvPr id="1664" name="Pie 18" descr=""/>
                <p:cNvPicPr/>
                <p:nvPr/>
              </p:nvPicPr>
              <p:blipFill>
                <a:blip r:embed="rId8"/>
                <a:stretch/>
              </p:blipFill>
              <p:spPr>
                <a:xfrm>
                  <a:off x="2462040" y="3870720"/>
                  <a:ext cx="2073600" cy="1675080"/>
                </a:xfrm>
                <a:prstGeom prst="rect">
                  <a:avLst/>
                </a:prstGeom>
                <a:ln w="0">
                  <a:noFill/>
                </a:ln>
              </p:spPr>
            </p:pic>
            <p:sp>
              <p:nvSpPr>
                <p:cNvPr id="1665" name=""/>
                <p:cNvSpPr/>
                <p:nvPr/>
              </p:nvSpPr>
              <p:spPr>
                <a:xfrm>
                  <a:off x="2480040" y="3888360"/>
                  <a:ext cx="2043720" cy="16459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4: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ummary Evaluation and Goal Setting </a:t>
                  </a:r>
                  <a:endParaRPr b="0" lang="en-US" sz="1800" spc="-1" strike="noStrike">
                    <a:solidFill>
                      <a:srgbClr val="000000"/>
                    </a:solidFill>
                    <a:latin typeface="Arial"/>
                  </a:endParaRPr>
                </a:p>
              </p:txBody>
            </p:sp>
          </p:grpSp>
        </p:grpSp>
        <p:grpSp>
          <p:nvGrpSpPr>
            <p:cNvPr id="1666" name="Circular Arrow 10"/>
            <p:cNvGrpSpPr/>
            <p:nvPr/>
          </p:nvGrpSpPr>
          <p:grpSpPr>
            <a:xfrm>
              <a:off x="4145400" y="3383280"/>
              <a:ext cx="908280" cy="341280"/>
              <a:chOff x="4145400" y="3383280"/>
              <a:chExt cx="908280" cy="341280"/>
            </a:xfrm>
          </p:grpSpPr>
          <p:pic>
            <p:nvPicPr>
              <p:cNvPr id="1667" name="Circular Arrow 10" descr=""/>
              <p:cNvPicPr/>
              <p:nvPr/>
            </p:nvPicPr>
            <p:blipFill>
              <a:blip r:embed="rId9"/>
              <a:stretch/>
            </p:blipFill>
            <p:spPr>
              <a:xfrm>
                <a:off x="4145400" y="3383280"/>
                <a:ext cx="908280" cy="232920"/>
              </a:xfrm>
              <a:prstGeom prst="rect">
                <a:avLst/>
              </a:prstGeom>
              <a:ln w="0">
                <a:noFill/>
              </a:ln>
            </p:spPr>
          </p:pic>
          <p:sp>
            <p:nvSpPr>
              <p:cNvPr id="1668" name=""/>
              <p:cNvSpPr/>
              <p:nvPr/>
            </p:nvSpPr>
            <p:spPr>
              <a:xfrm>
                <a:off x="4304520" y="3459960"/>
                <a:ext cx="607680" cy="26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9" name="Circular Arrow 11"/>
            <p:cNvGrpSpPr/>
            <p:nvPr/>
          </p:nvGrpSpPr>
          <p:grpSpPr>
            <a:xfrm>
              <a:off x="4157640" y="3889440"/>
              <a:ext cx="908280" cy="341280"/>
              <a:chOff x="4157640" y="3889440"/>
              <a:chExt cx="908280" cy="341280"/>
            </a:xfrm>
          </p:grpSpPr>
          <p:pic>
            <p:nvPicPr>
              <p:cNvPr id="1670" name="Circular Arrow 11" descr=""/>
              <p:cNvPicPr/>
              <p:nvPr/>
            </p:nvPicPr>
            <p:blipFill>
              <a:blip r:embed="rId10"/>
              <a:stretch/>
            </p:blipFill>
            <p:spPr>
              <a:xfrm>
                <a:off x="4157640" y="3994920"/>
                <a:ext cx="908280" cy="235800"/>
              </a:xfrm>
              <a:prstGeom prst="rect">
                <a:avLst/>
              </a:prstGeom>
              <a:ln w="0">
                <a:noFill/>
              </a:ln>
            </p:spPr>
          </p:pic>
          <p:sp>
            <p:nvSpPr>
              <p:cNvPr id="1671" name=""/>
              <p:cNvSpPr/>
              <p:nvPr/>
            </p:nvSpPr>
            <p:spPr>
              <a:xfrm rot="10800000">
                <a:off x="4304520" y="3889440"/>
                <a:ext cx="607680" cy="267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nnual Evaluation Policy</a:t>
            </a:r>
            <a:endParaRPr b="0" lang="en-US" sz="4400" spc="-1" strike="noStrike">
              <a:solidFill>
                <a:srgbClr val="000000"/>
              </a:solidFill>
              <a:latin typeface="Calibri"/>
            </a:endParaRPr>
          </a:p>
        </p:txBody>
      </p:sp>
      <p:sp>
        <p:nvSpPr>
          <p:cNvPr id="1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10-31T15:57:29Z</dcterms:modified>
  <cp:revision>86</cp:revision>
  <dc:subject/>
  <dc:title>RESA Implementation Sessions Day 2 Process</dc:title>
</cp:coreProperties>
</file>